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11360" y="393480"/>
            <a:ext cx="7721280" cy="1307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b5648"/>
              </a:solidFill>
              <a:latin typeface="Copperplat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11360" y="1942920"/>
            <a:ext cx="386064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b5648"/>
              </a:solidFill>
              <a:latin typeface="Baskerville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711360" y="4046040"/>
            <a:ext cx="386064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b5648"/>
              </a:solidFill>
              <a:latin typeface="Baskerville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711360" y="393480"/>
            <a:ext cx="7721280" cy="1307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b5648"/>
              </a:solidFill>
              <a:latin typeface="Copperplate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711360" y="1942920"/>
            <a:ext cx="1883880" cy="4025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b5648"/>
              </a:solidFill>
              <a:latin typeface="Baskerville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2689920" y="1942920"/>
            <a:ext cx="1883880" cy="4025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b5648"/>
              </a:solidFill>
              <a:latin typeface="Baskerville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711360" y="393480"/>
            <a:ext cx="7721280" cy="1307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b5648"/>
              </a:solidFill>
              <a:latin typeface="Copperplate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ubTitle"/>
          </p:nvPr>
        </p:nvSpPr>
        <p:spPr>
          <a:xfrm>
            <a:off x="711360" y="393480"/>
            <a:ext cx="7721280" cy="606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200" spc="-1" strike="noStrike">
              <a:solidFill>
                <a:srgbClr val="5b5648"/>
              </a:solidFill>
              <a:latin typeface="Baskerville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711360" y="393480"/>
            <a:ext cx="7721280" cy="1307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b5648"/>
              </a:solidFill>
              <a:latin typeface="Copperplate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711360" y="1942920"/>
            <a:ext cx="188388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b5648"/>
              </a:solidFill>
              <a:latin typeface="Baskerville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2689920" y="1942920"/>
            <a:ext cx="1883880" cy="4025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b5648"/>
              </a:solidFill>
              <a:latin typeface="Baskerville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711360" y="4046040"/>
            <a:ext cx="188388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b5648"/>
              </a:solidFill>
              <a:latin typeface="Baskerville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711360" y="393480"/>
            <a:ext cx="7721280" cy="1307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b5648"/>
              </a:solidFill>
              <a:latin typeface="Copperplate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711360" y="1942920"/>
            <a:ext cx="1883880" cy="4025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b5648"/>
              </a:solidFill>
              <a:latin typeface="Baskerville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2689920" y="1942920"/>
            <a:ext cx="188388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b5648"/>
              </a:solidFill>
              <a:latin typeface="Baskerville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2689920" y="4046040"/>
            <a:ext cx="188388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b5648"/>
              </a:solidFill>
              <a:latin typeface="Baskerville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711360" y="393480"/>
            <a:ext cx="7721280" cy="1307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b5648"/>
              </a:solidFill>
              <a:latin typeface="Copperplat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711360" y="1942920"/>
            <a:ext cx="188388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b5648"/>
              </a:solidFill>
              <a:latin typeface="Baskerville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2689920" y="1942920"/>
            <a:ext cx="188388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b5648"/>
              </a:solidFill>
              <a:latin typeface="Baskerville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711360" y="4046040"/>
            <a:ext cx="386064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b5648"/>
              </a:solidFill>
              <a:latin typeface="Baskerville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711360" y="393480"/>
            <a:ext cx="7721280" cy="1307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b5648"/>
              </a:solidFill>
              <a:latin typeface="Copperplate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711360" y="1942920"/>
            <a:ext cx="386064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b5648"/>
              </a:solidFill>
              <a:latin typeface="Baskerville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711360" y="4046040"/>
            <a:ext cx="386064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b5648"/>
              </a:solidFill>
              <a:latin typeface="Baskerville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711360" y="393480"/>
            <a:ext cx="7721280" cy="1307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b5648"/>
              </a:solidFill>
              <a:latin typeface="Copperplate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711360" y="1942920"/>
            <a:ext cx="188388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b5648"/>
              </a:solidFill>
              <a:latin typeface="Baskerville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2689920" y="1942920"/>
            <a:ext cx="188388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b5648"/>
              </a:solidFill>
              <a:latin typeface="Baskerville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711360" y="4046040"/>
            <a:ext cx="188388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b5648"/>
              </a:solidFill>
              <a:latin typeface="Baskerville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2689920" y="4046040"/>
            <a:ext cx="188388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b5648"/>
              </a:solidFill>
              <a:latin typeface="Baskerville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711360" y="393480"/>
            <a:ext cx="7721280" cy="1307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b5648"/>
              </a:solidFill>
              <a:latin typeface="Copperplate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711360" y="1942920"/>
            <a:ext cx="124272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b5648"/>
              </a:solidFill>
              <a:latin typeface="Baskerville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2016720" y="1942920"/>
            <a:ext cx="124272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b5648"/>
              </a:solidFill>
              <a:latin typeface="Baskerville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3321720" y="1942920"/>
            <a:ext cx="124272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b5648"/>
              </a:solidFill>
              <a:latin typeface="Baskerville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711360" y="4046040"/>
            <a:ext cx="124272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b5648"/>
              </a:solidFill>
              <a:latin typeface="Baskerville"/>
            </a:endParaRPr>
          </a:p>
        </p:txBody>
      </p:sp>
      <p:sp>
        <p:nvSpPr>
          <p:cNvPr id="337" name="PlaceHolder 6"/>
          <p:cNvSpPr>
            <a:spLocks noGrp="1"/>
          </p:cNvSpPr>
          <p:nvPr>
            <p:ph/>
          </p:nvPr>
        </p:nvSpPr>
        <p:spPr>
          <a:xfrm>
            <a:off x="2016720" y="4046040"/>
            <a:ext cx="124272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b5648"/>
              </a:solidFill>
              <a:latin typeface="Baskerville"/>
            </a:endParaRPr>
          </a:p>
        </p:txBody>
      </p:sp>
      <p:sp>
        <p:nvSpPr>
          <p:cNvPr id="338" name="PlaceHolder 7"/>
          <p:cNvSpPr>
            <a:spLocks noGrp="1"/>
          </p:cNvSpPr>
          <p:nvPr>
            <p:ph/>
          </p:nvPr>
        </p:nvSpPr>
        <p:spPr>
          <a:xfrm>
            <a:off x="3321720" y="4046040"/>
            <a:ext cx="124272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b5648"/>
              </a:solidFill>
              <a:latin typeface="Baskerville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11360" y="393480"/>
            <a:ext cx="7721280" cy="1307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b5648"/>
              </a:solidFill>
              <a:latin typeface="Copperplat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11360" y="1942920"/>
            <a:ext cx="188388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b5648"/>
              </a:solidFill>
              <a:latin typeface="Baskervill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689920" y="1942920"/>
            <a:ext cx="188388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b5648"/>
              </a:solidFill>
              <a:latin typeface="Baskerville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11360" y="4046040"/>
            <a:ext cx="188388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b5648"/>
              </a:solidFill>
              <a:latin typeface="Baskerville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2689920" y="4046040"/>
            <a:ext cx="188388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b5648"/>
              </a:solidFill>
              <a:latin typeface="Baskerville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711360" y="393480"/>
            <a:ext cx="7721280" cy="1307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b5648"/>
              </a:solidFill>
              <a:latin typeface="Copperplate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711360" y="1942920"/>
            <a:ext cx="3860640" cy="402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b5648"/>
              </a:solidFill>
              <a:latin typeface="Baskerville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711360" y="393480"/>
            <a:ext cx="7721280" cy="1307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b5648"/>
              </a:solidFill>
              <a:latin typeface="Copperplate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711360" y="1942920"/>
            <a:ext cx="3860640" cy="4025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b5648"/>
              </a:solidFill>
              <a:latin typeface="Baskerville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711360" y="393480"/>
            <a:ext cx="7721280" cy="1307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b5648"/>
              </a:solidFill>
              <a:latin typeface="Copperplat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711360" y="1942920"/>
            <a:ext cx="1883880" cy="4025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b5648"/>
              </a:solidFill>
              <a:latin typeface="Baskervill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2689920" y="1942920"/>
            <a:ext cx="1883880" cy="4025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b5648"/>
              </a:solidFill>
              <a:latin typeface="Baskerville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711360" y="393480"/>
            <a:ext cx="7721280" cy="1307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b5648"/>
              </a:solidFill>
              <a:latin typeface="Copperplate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711360" y="393480"/>
            <a:ext cx="7721280" cy="606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200" spc="-1" strike="noStrike">
              <a:solidFill>
                <a:srgbClr val="5b5648"/>
              </a:solidFill>
              <a:latin typeface="Baskerville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711360" y="393480"/>
            <a:ext cx="7721280" cy="1307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b5648"/>
              </a:solidFill>
              <a:latin typeface="Copperplate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711360" y="1942920"/>
            <a:ext cx="188388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b5648"/>
              </a:solidFill>
              <a:latin typeface="Baskerville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2689920" y="1942920"/>
            <a:ext cx="1883880" cy="4025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b5648"/>
              </a:solidFill>
              <a:latin typeface="Baskerville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711360" y="4046040"/>
            <a:ext cx="188388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b5648"/>
              </a:solidFill>
              <a:latin typeface="Baskerville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711360" y="393480"/>
            <a:ext cx="7721280" cy="1307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b5648"/>
              </a:solidFill>
              <a:latin typeface="Copperplate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711360" y="1942920"/>
            <a:ext cx="1883880" cy="4025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b5648"/>
              </a:solidFill>
              <a:latin typeface="Baskerville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2689920" y="1942920"/>
            <a:ext cx="188388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b5648"/>
              </a:solidFill>
              <a:latin typeface="Baskerville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2689920" y="4046040"/>
            <a:ext cx="188388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b5648"/>
              </a:solidFill>
              <a:latin typeface="Baskerville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711360" y="393480"/>
            <a:ext cx="7721280" cy="1307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b5648"/>
              </a:solidFill>
              <a:latin typeface="Copperplate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711360" y="1942920"/>
            <a:ext cx="188388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b5648"/>
              </a:solidFill>
              <a:latin typeface="Baskerville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2689920" y="1942920"/>
            <a:ext cx="188388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b5648"/>
              </a:solidFill>
              <a:latin typeface="Baskerville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711360" y="4046040"/>
            <a:ext cx="386064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b5648"/>
              </a:solidFill>
              <a:latin typeface="Baskerville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711360" y="393480"/>
            <a:ext cx="7721280" cy="1307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b5648"/>
              </a:solidFill>
              <a:latin typeface="Copperplate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711360" y="1942920"/>
            <a:ext cx="386064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b5648"/>
              </a:solidFill>
              <a:latin typeface="Baskerville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711360" y="4046040"/>
            <a:ext cx="386064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b5648"/>
              </a:solidFill>
              <a:latin typeface="Baskerville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711360" y="393480"/>
            <a:ext cx="7721280" cy="1307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b5648"/>
              </a:solidFill>
              <a:latin typeface="Copperplat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711360" y="1942920"/>
            <a:ext cx="188388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b5648"/>
              </a:solidFill>
              <a:latin typeface="Baskervill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2689920" y="1942920"/>
            <a:ext cx="188388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b5648"/>
              </a:solidFill>
              <a:latin typeface="Baskervill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711360" y="4046040"/>
            <a:ext cx="188388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b5648"/>
              </a:solidFill>
              <a:latin typeface="Baskervill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2689920" y="4046040"/>
            <a:ext cx="188388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b5648"/>
              </a:solidFill>
              <a:latin typeface="Baskerville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11360" y="393480"/>
            <a:ext cx="7721280" cy="1307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b5648"/>
              </a:solidFill>
              <a:latin typeface="Copperplat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11360" y="1942920"/>
            <a:ext cx="124272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b5648"/>
              </a:solidFill>
              <a:latin typeface="Baskerville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016720" y="1942920"/>
            <a:ext cx="124272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b5648"/>
              </a:solidFill>
              <a:latin typeface="Baskerville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321720" y="1942920"/>
            <a:ext cx="124272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b5648"/>
              </a:solidFill>
              <a:latin typeface="Baskerville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711360" y="4046040"/>
            <a:ext cx="124272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b5648"/>
              </a:solidFill>
              <a:latin typeface="Baskerville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2016720" y="4046040"/>
            <a:ext cx="124272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b5648"/>
              </a:solidFill>
              <a:latin typeface="Baskerville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3321720" y="4046040"/>
            <a:ext cx="124272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b5648"/>
              </a:solidFill>
              <a:latin typeface="Baskerville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711360" y="393480"/>
            <a:ext cx="7721280" cy="1307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b5648"/>
              </a:solidFill>
              <a:latin typeface="Copperplate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711360" y="1942920"/>
            <a:ext cx="124272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b5648"/>
              </a:solidFill>
              <a:latin typeface="Baskerville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2016720" y="1942920"/>
            <a:ext cx="124272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b5648"/>
              </a:solidFill>
              <a:latin typeface="Baskerville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3321720" y="1942920"/>
            <a:ext cx="124272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b5648"/>
              </a:solidFill>
              <a:latin typeface="Baskerville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711360" y="4046040"/>
            <a:ext cx="124272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b5648"/>
              </a:solidFill>
              <a:latin typeface="Baskerville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2016720" y="4046040"/>
            <a:ext cx="124272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b5648"/>
              </a:solidFill>
              <a:latin typeface="Baskerville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3321720" y="4046040"/>
            <a:ext cx="124272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b5648"/>
              </a:solidFill>
              <a:latin typeface="Baskerville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711360" y="393480"/>
            <a:ext cx="7721280" cy="1307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b5648"/>
              </a:solidFill>
              <a:latin typeface="Copperplate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711360" y="1942920"/>
            <a:ext cx="3860640" cy="402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b5648"/>
              </a:solidFill>
              <a:latin typeface="Baskerville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711360" y="393480"/>
            <a:ext cx="7721280" cy="1307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b5648"/>
              </a:solidFill>
              <a:latin typeface="Copperplate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711360" y="1942920"/>
            <a:ext cx="3860640" cy="4025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b5648"/>
              </a:solidFill>
              <a:latin typeface="Baskerville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711360" y="393480"/>
            <a:ext cx="7721280" cy="1307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b5648"/>
              </a:solidFill>
              <a:latin typeface="Copperplate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711360" y="1942920"/>
            <a:ext cx="1883880" cy="4025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b5648"/>
              </a:solidFill>
              <a:latin typeface="Baskerville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2689920" y="1942920"/>
            <a:ext cx="1883880" cy="4025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b5648"/>
              </a:solidFill>
              <a:latin typeface="Baskerville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711360" y="393480"/>
            <a:ext cx="7721280" cy="1307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b5648"/>
              </a:solidFill>
              <a:latin typeface="Copperplate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ubTitle"/>
          </p:nvPr>
        </p:nvSpPr>
        <p:spPr>
          <a:xfrm>
            <a:off x="711360" y="393480"/>
            <a:ext cx="7721280" cy="606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200" spc="-1" strike="noStrike">
              <a:solidFill>
                <a:srgbClr val="5b5648"/>
              </a:solidFill>
              <a:latin typeface="Baskerville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711360" y="393480"/>
            <a:ext cx="7721280" cy="1307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b5648"/>
              </a:solidFill>
              <a:latin typeface="Copperplate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711360" y="1942920"/>
            <a:ext cx="188388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b5648"/>
              </a:solidFill>
              <a:latin typeface="Baskerville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2689920" y="1942920"/>
            <a:ext cx="1883880" cy="4025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b5648"/>
              </a:solidFill>
              <a:latin typeface="Baskerville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711360" y="4046040"/>
            <a:ext cx="188388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b5648"/>
              </a:solidFill>
              <a:latin typeface="Baskerville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711360" y="393480"/>
            <a:ext cx="7721280" cy="1307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b5648"/>
              </a:solidFill>
              <a:latin typeface="Copperplate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711360" y="1942920"/>
            <a:ext cx="1883880" cy="4025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b5648"/>
              </a:solidFill>
              <a:latin typeface="Baskerville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2689920" y="1942920"/>
            <a:ext cx="188388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b5648"/>
              </a:solidFill>
              <a:latin typeface="Baskerville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2689920" y="4046040"/>
            <a:ext cx="188388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b5648"/>
              </a:solidFill>
              <a:latin typeface="Baskerville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711360" y="393480"/>
            <a:ext cx="7721280" cy="1307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b5648"/>
              </a:solidFill>
              <a:latin typeface="Copperplate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711360" y="1942920"/>
            <a:ext cx="188388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b5648"/>
              </a:solidFill>
              <a:latin typeface="Baskerville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2689920" y="1942920"/>
            <a:ext cx="188388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b5648"/>
              </a:solidFill>
              <a:latin typeface="Baskerville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711360" y="4046040"/>
            <a:ext cx="386064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b5648"/>
              </a:solidFill>
              <a:latin typeface="Baskerville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711360" y="393480"/>
            <a:ext cx="7721280" cy="1307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b5648"/>
              </a:solidFill>
              <a:latin typeface="Copperplate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711360" y="1942920"/>
            <a:ext cx="386064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b5648"/>
              </a:solidFill>
              <a:latin typeface="Baskerville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711360" y="4046040"/>
            <a:ext cx="386064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b5648"/>
              </a:solidFill>
              <a:latin typeface="Baskerville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711360" y="393480"/>
            <a:ext cx="7721280" cy="1307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b5648"/>
              </a:solidFill>
              <a:latin typeface="Copperplate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711360" y="1942920"/>
            <a:ext cx="188388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b5648"/>
              </a:solidFill>
              <a:latin typeface="Baskerville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2689920" y="1942920"/>
            <a:ext cx="188388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b5648"/>
              </a:solidFill>
              <a:latin typeface="Baskerville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711360" y="4046040"/>
            <a:ext cx="188388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b5648"/>
              </a:solidFill>
              <a:latin typeface="Baskerville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2689920" y="4046040"/>
            <a:ext cx="188388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b5648"/>
              </a:solidFill>
              <a:latin typeface="Baskerville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711360" y="393480"/>
            <a:ext cx="7721280" cy="1307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b5648"/>
              </a:solidFill>
              <a:latin typeface="Copperplate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711360" y="1942920"/>
            <a:ext cx="124272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b5648"/>
              </a:solidFill>
              <a:latin typeface="Baskerville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2016720" y="1942920"/>
            <a:ext cx="124272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b5648"/>
              </a:solidFill>
              <a:latin typeface="Baskerville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3321720" y="1942920"/>
            <a:ext cx="124272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b5648"/>
              </a:solidFill>
              <a:latin typeface="Baskerville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711360" y="4046040"/>
            <a:ext cx="124272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b5648"/>
              </a:solidFill>
              <a:latin typeface="Baskerville"/>
            </a:endParaRPr>
          </a:p>
        </p:txBody>
      </p:sp>
      <p:sp>
        <p:nvSpPr>
          <p:cNvPr id="410" name="PlaceHolder 6"/>
          <p:cNvSpPr>
            <a:spLocks noGrp="1"/>
          </p:cNvSpPr>
          <p:nvPr>
            <p:ph/>
          </p:nvPr>
        </p:nvSpPr>
        <p:spPr>
          <a:xfrm>
            <a:off x="2016720" y="4046040"/>
            <a:ext cx="124272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b5648"/>
              </a:solidFill>
              <a:latin typeface="Baskerville"/>
            </a:endParaRPr>
          </a:p>
        </p:txBody>
      </p:sp>
      <p:sp>
        <p:nvSpPr>
          <p:cNvPr id="411" name="PlaceHolder 7"/>
          <p:cNvSpPr>
            <a:spLocks noGrp="1"/>
          </p:cNvSpPr>
          <p:nvPr>
            <p:ph/>
          </p:nvPr>
        </p:nvSpPr>
        <p:spPr>
          <a:xfrm>
            <a:off x="3321720" y="4046040"/>
            <a:ext cx="124272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b5648"/>
              </a:solidFill>
              <a:latin typeface="Baskerville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711360" y="393480"/>
            <a:ext cx="7721280" cy="1307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b5648"/>
              </a:solidFill>
              <a:latin typeface="Copperplate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711360" y="1942920"/>
            <a:ext cx="3860640" cy="402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b5648"/>
              </a:solidFill>
              <a:latin typeface="Baskerville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711360" y="393480"/>
            <a:ext cx="7721280" cy="1307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b5648"/>
              </a:solidFill>
              <a:latin typeface="Copperplate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711360" y="1942920"/>
            <a:ext cx="3860640" cy="4025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b5648"/>
              </a:solidFill>
              <a:latin typeface="Baskerville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711360" y="393480"/>
            <a:ext cx="7721280" cy="1307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b5648"/>
              </a:solidFill>
              <a:latin typeface="Copperplate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711360" y="1942920"/>
            <a:ext cx="1883880" cy="4025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b5648"/>
              </a:solidFill>
              <a:latin typeface="Baskerville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2689920" y="1942920"/>
            <a:ext cx="1883880" cy="4025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b5648"/>
              </a:solidFill>
              <a:latin typeface="Baskerville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711360" y="393480"/>
            <a:ext cx="7721280" cy="1307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b5648"/>
              </a:solidFill>
              <a:latin typeface="Copperplate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711360" y="393480"/>
            <a:ext cx="7721280" cy="606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200" spc="-1" strike="noStrike">
              <a:solidFill>
                <a:srgbClr val="5b5648"/>
              </a:solidFill>
              <a:latin typeface="Baskerville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711360" y="393480"/>
            <a:ext cx="7721280" cy="1307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b5648"/>
              </a:solidFill>
              <a:latin typeface="Copperplate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711360" y="1942920"/>
            <a:ext cx="188388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b5648"/>
              </a:solidFill>
              <a:latin typeface="Baskerville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2689920" y="1942920"/>
            <a:ext cx="1883880" cy="4025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b5648"/>
              </a:solidFill>
              <a:latin typeface="Baskerville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711360" y="4046040"/>
            <a:ext cx="188388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b5648"/>
              </a:solidFill>
              <a:latin typeface="Baskerville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711360" y="393480"/>
            <a:ext cx="7721280" cy="1307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b5648"/>
              </a:solidFill>
              <a:latin typeface="Copperplat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711360" y="1942920"/>
            <a:ext cx="3860640" cy="402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b5648"/>
              </a:solidFill>
              <a:latin typeface="Baskerville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711360" y="393480"/>
            <a:ext cx="7721280" cy="1307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b5648"/>
              </a:solidFill>
              <a:latin typeface="Copperplate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711360" y="1942920"/>
            <a:ext cx="1883880" cy="4025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b5648"/>
              </a:solidFill>
              <a:latin typeface="Baskerville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2689920" y="1942920"/>
            <a:ext cx="188388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b5648"/>
              </a:solidFill>
              <a:latin typeface="Baskerville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2689920" y="4046040"/>
            <a:ext cx="188388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b5648"/>
              </a:solidFill>
              <a:latin typeface="Baskerville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711360" y="393480"/>
            <a:ext cx="7721280" cy="1307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b5648"/>
              </a:solidFill>
              <a:latin typeface="Copperplate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711360" y="1942920"/>
            <a:ext cx="188388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b5648"/>
              </a:solidFill>
              <a:latin typeface="Baskerville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2689920" y="1942920"/>
            <a:ext cx="188388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b5648"/>
              </a:solidFill>
              <a:latin typeface="Baskerville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711360" y="4046040"/>
            <a:ext cx="386064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b5648"/>
              </a:solidFill>
              <a:latin typeface="Baskerville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711360" y="393480"/>
            <a:ext cx="7721280" cy="1307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b5648"/>
              </a:solidFill>
              <a:latin typeface="Copperplate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711360" y="1942920"/>
            <a:ext cx="386064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b5648"/>
              </a:solidFill>
              <a:latin typeface="Baskerville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711360" y="4046040"/>
            <a:ext cx="386064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b5648"/>
              </a:solidFill>
              <a:latin typeface="Baskerville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711360" y="393480"/>
            <a:ext cx="7721280" cy="1307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b5648"/>
              </a:solidFill>
              <a:latin typeface="Copperplate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711360" y="1942920"/>
            <a:ext cx="188388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b5648"/>
              </a:solidFill>
              <a:latin typeface="Baskerville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2689920" y="1942920"/>
            <a:ext cx="188388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b5648"/>
              </a:solidFill>
              <a:latin typeface="Baskerville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711360" y="4046040"/>
            <a:ext cx="188388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b5648"/>
              </a:solidFill>
              <a:latin typeface="Baskerville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2689920" y="4046040"/>
            <a:ext cx="188388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b5648"/>
              </a:solidFill>
              <a:latin typeface="Baskerville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711360" y="393480"/>
            <a:ext cx="7721280" cy="1307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b5648"/>
              </a:solidFill>
              <a:latin typeface="Copperplate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711360" y="1942920"/>
            <a:ext cx="124272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b5648"/>
              </a:solidFill>
              <a:latin typeface="Baskerville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2016720" y="1942920"/>
            <a:ext cx="124272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b5648"/>
              </a:solidFill>
              <a:latin typeface="Baskerville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3321720" y="1942920"/>
            <a:ext cx="124272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b5648"/>
              </a:solidFill>
              <a:latin typeface="Baskerville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711360" y="4046040"/>
            <a:ext cx="124272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b5648"/>
              </a:solidFill>
              <a:latin typeface="Baskerville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2016720" y="4046040"/>
            <a:ext cx="124272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b5648"/>
              </a:solidFill>
              <a:latin typeface="Baskerville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3321720" y="4046040"/>
            <a:ext cx="124272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b5648"/>
              </a:solidFill>
              <a:latin typeface="Baskerville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11360" y="393480"/>
            <a:ext cx="7721280" cy="1307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b5648"/>
              </a:solidFill>
              <a:latin typeface="Copperplate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711360" y="1942920"/>
            <a:ext cx="3860640" cy="4025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b5648"/>
              </a:solidFill>
              <a:latin typeface="Baskerville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11360" y="393480"/>
            <a:ext cx="7721280" cy="1307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b5648"/>
              </a:solidFill>
              <a:latin typeface="Copperplate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711360" y="1942920"/>
            <a:ext cx="1883880" cy="4025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b5648"/>
              </a:solidFill>
              <a:latin typeface="Baskerville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689920" y="1942920"/>
            <a:ext cx="1883880" cy="4025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b5648"/>
              </a:solidFill>
              <a:latin typeface="Baskerville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11360" y="393480"/>
            <a:ext cx="7721280" cy="1307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b5648"/>
              </a:solidFill>
              <a:latin typeface="Copperplate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711360" y="393480"/>
            <a:ext cx="7721280" cy="606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200" spc="-1" strike="noStrike">
              <a:solidFill>
                <a:srgbClr val="5b5648"/>
              </a:solidFill>
              <a:latin typeface="Baskerville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11360" y="393480"/>
            <a:ext cx="7721280" cy="1307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b5648"/>
              </a:solidFill>
              <a:latin typeface="Copperplate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11360" y="1942920"/>
            <a:ext cx="188388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b5648"/>
              </a:solidFill>
              <a:latin typeface="Baskerville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2689920" y="1942920"/>
            <a:ext cx="1883880" cy="4025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b5648"/>
              </a:solidFill>
              <a:latin typeface="Baskerville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711360" y="4046040"/>
            <a:ext cx="188388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b5648"/>
              </a:solidFill>
              <a:latin typeface="Baskerville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11360" y="393480"/>
            <a:ext cx="7721280" cy="1307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b5648"/>
              </a:solidFill>
              <a:latin typeface="Copperplat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711360" y="1942920"/>
            <a:ext cx="3860640" cy="402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b5648"/>
              </a:solidFill>
              <a:latin typeface="Baskerville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1360" y="393480"/>
            <a:ext cx="7721280" cy="1307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b5648"/>
              </a:solidFill>
              <a:latin typeface="Copperplat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11360" y="1942920"/>
            <a:ext cx="1883880" cy="4025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b5648"/>
              </a:solidFill>
              <a:latin typeface="Baskerville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2689920" y="1942920"/>
            <a:ext cx="188388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b5648"/>
              </a:solidFill>
              <a:latin typeface="Baskerville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2689920" y="4046040"/>
            <a:ext cx="188388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b5648"/>
              </a:solidFill>
              <a:latin typeface="Baskerville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11360" y="393480"/>
            <a:ext cx="7721280" cy="1307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b5648"/>
              </a:solidFill>
              <a:latin typeface="Copperplat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11360" y="1942920"/>
            <a:ext cx="188388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b5648"/>
              </a:solidFill>
              <a:latin typeface="Baskerville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2689920" y="1942920"/>
            <a:ext cx="188388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b5648"/>
              </a:solidFill>
              <a:latin typeface="Baskerville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711360" y="4046040"/>
            <a:ext cx="386064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b5648"/>
              </a:solidFill>
              <a:latin typeface="Baskerville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11360" y="393480"/>
            <a:ext cx="7721280" cy="1307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b5648"/>
              </a:solidFill>
              <a:latin typeface="Copperplate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11360" y="1942920"/>
            <a:ext cx="386064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b5648"/>
              </a:solidFill>
              <a:latin typeface="Baskerville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711360" y="4046040"/>
            <a:ext cx="386064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b5648"/>
              </a:solidFill>
              <a:latin typeface="Baskerville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11360" y="393480"/>
            <a:ext cx="7721280" cy="1307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b5648"/>
              </a:solidFill>
              <a:latin typeface="Copperplat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11360" y="1942920"/>
            <a:ext cx="188388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b5648"/>
              </a:solidFill>
              <a:latin typeface="Baskervill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2689920" y="1942920"/>
            <a:ext cx="188388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b5648"/>
              </a:solidFill>
              <a:latin typeface="Baskerville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711360" y="4046040"/>
            <a:ext cx="188388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b5648"/>
              </a:solidFill>
              <a:latin typeface="Baskerville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2689920" y="4046040"/>
            <a:ext cx="188388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b5648"/>
              </a:solidFill>
              <a:latin typeface="Baskerville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11360" y="393480"/>
            <a:ext cx="7721280" cy="1307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b5648"/>
              </a:solidFill>
              <a:latin typeface="Copperplat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11360" y="1942920"/>
            <a:ext cx="124272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b5648"/>
              </a:solidFill>
              <a:latin typeface="Baskervill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016720" y="1942920"/>
            <a:ext cx="124272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b5648"/>
              </a:solidFill>
              <a:latin typeface="Baskervill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321720" y="1942920"/>
            <a:ext cx="124272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b5648"/>
              </a:solidFill>
              <a:latin typeface="Baskerville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711360" y="4046040"/>
            <a:ext cx="124272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b5648"/>
              </a:solidFill>
              <a:latin typeface="Baskerville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2016720" y="4046040"/>
            <a:ext cx="124272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b5648"/>
              </a:solidFill>
              <a:latin typeface="Baskerville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3321720" y="4046040"/>
            <a:ext cx="124272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b5648"/>
              </a:solidFill>
              <a:latin typeface="Baskerville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11360" y="393480"/>
            <a:ext cx="7721280" cy="1307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b5648"/>
              </a:solidFill>
              <a:latin typeface="Copperplate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711360" y="1942920"/>
            <a:ext cx="3860640" cy="402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b5648"/>
              </a:solidFill>
              <a:latin typeface="Baskerville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11360" y="393480"/>
            <a:ext cx="7721280" cy="1307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b5648"/>
              </a:solidFill>
              <a:latin typeface="Copperplate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711360" y="1942920"/>
            <a:ext cx="3860640" cy="4025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b5648"/>
              </a:solidFill>
              <a:latin typeface="Baskerville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11360" y="393480"/>
            <a:ext cx="7721280" cy="1307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b5648"/>
              </a:solidFill>
              <a:latin typeface="Copperplat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11360" y="1942920"/>
            <a:ext cx="1883880" cy="4025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b5648"/>
              </a:solidFill>
              <a:latin typeface="Baskerville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689920" y="1942920"/>
            <a:ext cx="1883880" cy="4025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b5648"/>
              </a:solidFill>
              <a:latin typeface="Baskerville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11360" y="393480"/>
            <a:ext cx="7721280" cy="1307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b5648"/>
              </a:solidFill>
              <a:latin typeface="Copperplate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11360" y="393480"/>
            <a:ext cx="7721280" cy="1307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b5648"/>
              </a:solidFill>
              <a:latin typeface="Copperplate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711360" y="1942920"/>
            <a:ext cx="3860640" cy="4025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b5648"/>
              </a:solidFill>
              <a:latin typeface="Baskerville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711360" y="393480"/>
            <a:ext cx="7721280" cy="606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200" spc="-1" strike="noStrike">
              <a:solidFill>
                <a:srgbClr val="5b5648"/>
              </a:solidFill>
              <a:latin typeface="Baskerville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11360" y="393480"/>
            <a:ext cx="7721280" cy="1307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b5648"/>
              </a:solidFill>
              <a:latin typeface="Copperplate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711360" y="1942920"/>
            <a:ext cx="188388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b5648"/>
              </a:solidFill>
              <a:latin typeface="Baskerville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2689920" y="1942920"/>
            <a:ext cx="1883880" cy="4025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b5648"/>
              </a:solidFill>
              <a:latin typeface="Baskerville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711360" y="4046040"/>
            <a:ext cx="188388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b5648"/>
              </a:solidFill>
              <a:latin typeface="Baskerville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11360" y="393480"/>
            <a:ext cx="7721280" cy="1307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b5648"/>
              </a:solidFill>
              <a:latin typeface="Copperplat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11360" y="1942920"/>
            <a:ext cx="1883880" cy="4025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b5648"/>
              </a:solidFill>
              <a:latin typeface="Baskerville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2689920" y="1942920"/>
            <a:ext cx="188388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b5648"/>
              </a:solidFill>
              <a:latin typeface="Baskerville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2689920" y="4046040"/>
            <a:ext cx="188388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b5648"/>
              </a:solidFill>
              <a:latin typeface="Baskerville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11360" y="393480"/>
            <a:ext cx="7721280" cy="1307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b5648"/>
              </a:solidFill>
              <a:latin typeface="Copperplate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11360" y="1942920"/>
            <a:ext cx="188388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b5648"/>
              </a:solidFill>
              <a:latin typeface="Baskerville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689920" y="1942920"/>
            <a:ext cx="188388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b5648"/>
              </a:solidFill>
              <a:latin typeface="Baskerville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711360" y="4046040"/>
            <a:ext cx="386064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b5648"/>
              </a:solidFill>
              <a:latin typeface="Baskerville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11360" y="393480"/>
            <a:ext cx="7721280" cy="1307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b5648"/>
              </a:solidFill>
              <a:latin typeface="Copperplate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11360" y="1942920"/>
            <a:ext cx="386064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b5648"/>
              </a:solidFill>
              <a:latin typeface="Baskerville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711360" y="4046040"/>
            <a:ext cx="386064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b5648"/>
              </a:solidFill>
              <a:latin typeface="Baskerville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11360" y="393480"/>
            <a:ext cx="7721280" cy="1307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b5648"/>
              </a:solidFill>
              <a:latin typeface="Copperplate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11360" y="1942920"/>
            <a:ext cx="188388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b5648"/>
              </a:solidFill>
              <a:latin typeface="Baskerville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2689920" y="1942920"/>
            <a:ext cx="188388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b5648"/>
              </a:solidFill>
              <a:latin typeface="Baskerville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711360" y="4046040"/>
            <a:ext cx="188388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b5648"/>
              </a:solidFill>
              <a:latin typeface="Baskerville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2689920" y="4046040"/>
            <a:ext cx="188388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b5648"/>
              </a:solidFill>
              <a:latin typeface="Baskerville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11360" y="393480"/>
            <a:ext cx="7721280" cy="1307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b5648"/>
              </a:solidFill>
              <a:latin typeface="Copperplate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11360" y="1942920"/>
            <a:ext cx="124272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b5648"/>
              </a:solidFill>
              <a:latin typeface="Baskerville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2016720" y="1942920"/>
            <a:ext cx="124272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b5648"/>
              </a:solidFill>
              <a:latin typeface="Baskerville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3321720" y="1942920"/>
            <a:ext cx="124272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b5648"/>
              </a:solidFill>
              <a:latin typeface="Baskerville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711360" y="4046040"/>
            <a:ext cx="124272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b5648"/>
              </a:solidFill>
              <a:latin typeface="Baskerville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2016720" y="4046040"/>
            <a:ext cx="124272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b5648"/>
              </a:solidFill>
              <a:latin typeface="Baskerville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3321720" y="4046040"/>
            <a:ext cx="124272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b5648"/>
              </a:solidFill>
              <a:latin typeface="Baskerville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11360" y="393480"/>
            <a:ext cx="7721280" cy="1307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b5648"/>
              </a:solidFill>
              <a:latin typeface="Copperplate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711360" y="1942920"/>
            <a:ext cx="3860640" cy="402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b5648"/>
              </a:solidFill>
              <a:latin typeface="Baskerville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11360" y="393480"/>
            <a:ext cx="7721280" cy="1307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b5648"/>
              </a:solidFill>
              <a:latin typeface="Copperplat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711360" y="1942920"/>
            <a:ext cx="3860640" cy="4025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b5648"/>
              </a:solidFill>
              <a:latin typeface="Baskerville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11360" y="393480"/>
            <a:ext cx="7721280" cy="1307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b5648"/>
              </a:solidFill>
              <a:latin typeface="Copperplat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11360" y="1942920"/>
            <a:ext cx="1883880" cy="4025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b5648"/>
              </a:solidFill>
              <a:latin typeface="Baskervill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2689920" y="1942920"/>
            <a:ext cx="1883880" cy="4025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b5648"/>
              </a:solidFill>
              <a:latin typeface="Baskerville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11360" y="393480"/>
            <a:ext cx="7721280" cy="1307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b5648"/>
              </a:solidFill>
              <a:latin typeface="Copperplat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711360" y="1942920"/>
            <a:ext cx="1883880" cy="4025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b5648"/>
              </a:solidFill>
              <a:latin typeface="Baskerville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2689920" y="1942920"/>
            <a:ext cx="1883880" cy="4025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b5648"/>
              </a:solidFill>
              <a:latin typeface="Baskerville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11360" y="393480"/>
            <a:ext cx="7721280" cy="1307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b5648"/>
              </a:solidFill>
              <a:latin typeface="Copperplate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711360" y="393480"/>
            <a:ext cx="7721280" cy="606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200" spc="-1" strike="noStrike">
              <a:solidFill>
                <a:srgbClr val="5b5648"/>
              </a:solidFill>
              <a:latin typeface="Baskerville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11360" y="393480"/>
            <a:ext cx="7721280" cy="1307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b5648"/>
              </a:solidFill>
              <a:latin typeface="Copperplate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711360" y="1942920"/>
            <a:ext cx="188388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b5648"/>
              </a:solidFill>
              <a:latin typeface="Baskerville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2689920" y="1942920"/>
            <a:ext cx="1883880" cy="4025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b5648"/>
              </a:solidFill>
              <a:latin typeface="Baskerville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711360" y="4046040"/>
            <a:ext cx="188388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b5648"/>
              </a:solidFill>
              <a:latin typeface="Baskerville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11360" y="393480"/>
            <a:ext cx="7721280" cy="1307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b5648"/>
              </a:solidFill>
              <a:latin typeface="Copperplate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711360" y="1942920"/>
            <a:ext cx="1883880" cy="4025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b5648"/>
              </a:solidFill>
              <a:latin typeface="Baskerville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2689920" y="1942920"/>
            <a:ext cx="188388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b5648"/>
              </a:solidFill>
              <a:latin typeface="Baskerville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2689920" y="4046040"/>
            <a:ext cx="188388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b5648"/>
              </a:solidFill>
              <a:latin typeface="Baskerville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11360" y="393480"/>
            <a:ext cx="7721280" cy="1307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b5648"/>
              </a:solidFill>
              <a:latin typeface="Copperplat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711360" y="1942920"/>
            <a:ext cx="188388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b5648"/>
              </a:solidFill>
              <a:latin typeface="Baskervill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2689920" y="1942920"/>
            <a:ext cx="188388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b5648"/>
              </a:solidFill>
              <a:latin typeface="Baskervill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711360" y="4046040"/>
            <a:ext cx="386064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b5648"/>
              </a:solidFill>
              <a:latin typeface="Baskerville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11360" y="393480"/>
            <a:ext cx="7721280" cy="1307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b5648"/>
              </a:solidFill>
              <a:latin typeface="Copperplate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11360" y="1942920"/>
            <a:ext cx="386064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b5648"/>
              </a:solidFill>
              <a:latin typeface="Baskerville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711360" y="4046040"/>
            <a:ext cx="386064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b5648"/>
              </a:solidFill>
              <a:latin typeface="Baskerville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11360" y="393480"/>
            <a:ext cx="7721280" cy="1307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b5648"/>
              </a:solidFill>
              <a:latin typeface="Copperplate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711360" y="1942920"/>
            <a:ext cx="188388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b5648"/>
              </a:solidFill>
              <a:latin typeface="Baskerville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2689920" y="1942920"/>
            <a:ext cx="188388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b5648"/>
              </a:solidFill>
              <a:latin typeface="Baskerville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711360" y="4046040"/>
            <a:ext cx="188388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b5648"/>
              </a:solidFill>
              <a:latin typeface="Baskerville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2689920" y="4046040"/>
            <a:ext cx="188388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b5648"/>
              </a:solidFill>
              <a:latin typeface="Baskerville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11360" y="393480"/>
            <a:ext cx="7721280" cy="1307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b5648"/>
              </a:solidFill>
              <a:latin typeface="Copperplat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11360" y="1942920"/>
            <a:ext cx="124272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b5648"/>
              </a:solidFill>
              <a:latin typeface="Baskerville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2016720" y="1942920"/>
            <a:ext cx="124272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b5648"/>
              </a:solidFill>
              <a:latin typeface="Baskerville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3321720" y="1942920"/>
            <a:ext cx="124272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b5648"/>
              </a:solidFill>
              <a:latin typeface="Baskerville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711360" y="4046040"/>
            <a:ext cx="124272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b5648"/>
              </a:solidFill>
              <a:latin typeface="Baskerville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2016720" y="4046040"/>
            <a:ext cx="124272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b5648"/>
              </a:solidFill>
              <a:latin typeface="Baskerville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3321720" y="4046040"/>
            <a:ext cx="124272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b5648"/>
              </a:solidFill>
              <a:latin typeface="Baskerville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11360" y="393480"/>
            <a:ext cx="7721280" cy="1307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b5648"/>
              </a:solidFill>
              <a:latin typeface="Copperplate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711360" y="393480"/>
            <a:ext cx="7721280" cy="1307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b5648"/>
              </a:solidFill>
              <a:latin typeface="Copperplate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711360" y="1942920"/>
            <a:ext cx="3860640" cy="402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b5648"/>
              </a:solidFill>
              <a:latin typeface="Baskerville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711360" y="393480"/>
            <a:ext cx="7721280" cy="1307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b5648"/>
              </a:solidFill>
              <a:latin typeface="Copperplate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711360" y="1942920"/>
            <a:ext cx="3860640" cy="4025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b5648"/>
              </a:solidFill>
              <a:latin typeface="Baskerville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11360" y="393480"/>
            <a:ext cx="7721280" cy="1307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b5648"/>
              </a:solidFill>
              <a:latin typeface="Copperplate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711360" y="1942920"/>
            <a:ext cx="1883880" cy="4025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b5648"/>
              </a:solidFill>
              <a:latin typeface="Baskerville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2689920" y="1942920"/>
            <a:ext cx="1883880" cy="4025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b5648"/>
              </a:solidFill>
              <a:latin typeface="Baskerville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11360" y="393480"/>
            <a:ext cx="7721280" cy="1307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b5648"/>
              </a:solidFill>
              <a:latin typeface="Copperplate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ubTitle"/>
          </p:nvPr>
        </p:nvSpPr>
        <p:spPr>
          <a:xfrm>
            <a:off x="711360" y="393480"/>
            <a:ext cx="7721280" cy="606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200" spc="-1" strike="noStrike">
              <a:solidFill>
                <a:srgbClr val="5b5648"/>
              </a:solidFill>
              <a:latin typeface="Baskerville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11360" y="393480"/>
            <a:ext cx="7721280" cy="1307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b5648"/>
              </a:solidFill>
              <a:latin typeface="Copperplate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711360" y="1942920"/>
            <a:ext cx="188388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b5648"/>
              </a:solidFill>
              <a:latin typeface="Baskerville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2689920" y="1942920"/>
            <a:ext cx="1883880" cy="4025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b5648"/>
              </a:solidFill>
              <a:latin typeface="Baskerville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711360" y="4046040"/>
            <a:ext cx="188388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b5648"/>
              </a:solidFill>
              <a:latin typeface="Baskerville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711360" y="393480"/>
            <a:ext cx="7721280" cy="1307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b5648"/>
              </a:solidFill>
              <a:latin typeface="Copperplate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711360" y="1942920"/>
            <a:ext cx="1883880" cy="4025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b5648"/>
              </a:solidFill>
              <a:latin typeface="Baskerville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2689920" y="1942920"/>
            <a:ext cx="188388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b5648"/>
              </a:solidFill>
              <a:latin typeface="Baskerville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2689920" y="4046040"/>
            <a:ext cx="188388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b5648"/>
              </a:solidFill>
              <a:latin typeface="Baskerville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711360" y="393480"/>
            <a:ext cx="7721280" cy="1307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b5648"/>
              </a:solidFill>
              <a:latin typeface="Copperplate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711360" y="1942920"/>
            <a:ext cx="188388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b5648"/>
              </a:solidFill>
              <a:latin typeface="Baskerville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2689920" y="1942920"/>
            <a:ext cx="188388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b5648"/>
              </a:solidFill>
              <a:latin typeface="Baskerville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711360" y="4046040"/>
            <a:ext cx="386064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b5648"/>
              </a:solidFill>
              <a:latin typeface="Baskerville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11360" y="393480"/>
            <a:ext cx="7721280" cy="1307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b5648"/>
              </a:solidFill>
              <a:latin typeface="Copperplate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711360" y="1942920"/>
            <a:ext cx="386064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b5648"/>
              </a:solidFill>
              <a:latin typeface="Baskerville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711360" y="4046040"/>
            <a:ext cx="386064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b5648"/>
              </a:solidFill>
              <a:latin typeface="Baskerville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711360" y="393480"/>
            <a:ext cx="7721280" cy="1307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b5648"/>
              </a:solidFill>
              <a:latin typeface="Copperplat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711360" y="1942920"/>
            <a:ext cx="188388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b5648"/>
              </a:solidFill>
              <a:latin typeface="Baskervill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89920" y="1942920"/>
            <a:ext cx="188388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b5648"/>
              </a:solidFill>
              <a:latin typeface="Baskerville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711360" y="4046040"/>
            <a:ext cx="188388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b5648"/>
              </a:solidFill>
              <a:latin typeface="Baskerville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2689920" y="4046040"/>
            <a:ext cx="188388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b5648"/>
              </a:solidFill>
              <a:latin typeface="Baskerville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711360" y="393480"/>
            <a:ext cx="7721280" cy="606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200" spc="-1" strike="noStrike">
              <a:solidFill>
                <a:srgbClr val="5b5648"/>
              </a:solidFill>
              <a:latin typeface="Baskerville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711360" y="393480"/>
            <a:ext cx="7721280" cy="1307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b5648"/>
              </a:solidFill>
              <a:latin typeface="Copperplate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711360" y="1942920"/>
            <a:ext cx="124272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b5648"/>
              </a:solidFill>
              <a:latin typeface="Baskerville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2016720" y="1942920"/>
            <a:ext cx="124272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b5648"/>
              </a:solidFill>
              <a:latin typeface="Baskerville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3321720" y="1942920"/>
            <a:ext cx="124272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b5648"/>
              </a:solidFill>
              <a:latin typeface="Baskerville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711360" y="4046040"/>
            <a:ext cx="124272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b5648"/>
              </a:solidFill>
              <a:latin typeface="Baskerville"/>
            </a:endParaRPr>
          </a:p>
        </p:txBody>
      </p:sp>
      <p:sp>
        <p:nvSpPr>
          <p:cNvPr id="187" name="PlaceHolder 6"/>
          <p:cNvSpPr>
            <a:spLocks noGrp="1"/>
          </p:cNvSpPr>
          <p:nvPr>
            <p:ph/>
          </p:nvPr>
        </p:nvSpPr>
        <p:spPr>
          <a:xfrm>
            <a:off x="2016720" y="4046040"/>
            <a:ext cx="124272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b5648"/>
              </a:solidFill>
              <a:latin typeface="Baskerville"/>
            </a:endParaRPr>
          </a:p>
        </p:txBody>
      </p:sp>
      <p:sp>
        <p:nvSpPr>
          <p:cNvPr id="188" name="PlaceHolder 7"/>
          <p:cNvSpPr>
            <a:spLocks noGrp="1"/>
          </p:cNvSpPr>
          <p:nvPr>
            <p:ph/>
          </p:nvPr>
        </p:nvSpPr>
        <p:spPr>
          <a:xfrm>
            <a:off x="3321720" y="4046040"/>
            <a:ext cx="124272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b5648"/>
              </a:solidFill>
              <a:latin typeface="Baskerville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711360" y="393480"/>
            <a:ext cx="7721280" cy="1307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b5648"/>
              </a:solidFill>
              <a:latin typeface="Copperplate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711360" y="1942920"/>
            <a:ext cx="3860640" cy="402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b5648"/>
              </a:solidFill>
              <a:latin typeface="Baskerville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711360" y="393480"/>
            <a:ext cx="7721280" cy="1307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b5648"/>
              </a:solidFill>
              <a:latin typeface="Copperplat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711360" y="1942920"/>
            <a:ext cx="3860640" cy="4025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b5648"/>
              </a:solidFill>
              <a:latin typeface="Baskerville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711360" y="393480"/>
            <a:ext cx="7721280" cy="1307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b5648"/>
              </a:solidFill>
              <a:latin typeface="Copperplate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711360" y="1942920"/>
            <a:ext cx="1883880" cy="4025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b5648"/>
              </a:solidFill>
              <a:latin typeface="Baskerville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2689920" y="1942920"/>
            <a:ext cx="1883880" cy="4025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b5648"/>
              </a:solidFill>
              <a:latin typeface="Baskerville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711360" y="393480"/>
            <a:ext cx="7721280" cy="1307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b5648"/>
              </a:solidFill>
              <a:latin typeface="Copperplate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711360" y="393480"/>
            <a:ext cx="7721280" cy="606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200" spc="-1" strike="noStrike">
              <a:solidFill>
                <a:srgbClr val="5b5648"/>
              </a:solidFill>
              <a:latin typeface="Baskerville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711360" y="393480"/>
            <a:ext cx="7721280" cy="1307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b5648"/>
              </a:solidFill>
              <a:latin typeface="Copperplat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711360" y="1942920"/>
            <a:ext cx="188388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b5648"/>
              </a:solidFill>
              <a:latin typeface="Baskerville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2689920" y="1942920"/>
            <a:ext cx="1883880" cy="4025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b5648"/>
              </a:solidFill>
              <a:latin typeface="Baskerville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711360" y="4046040"/>
            <a:ext cx="188388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b5648"/>
              </a:solidFill>
              <a:latin typeface="Baskerville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711360" y="393480"/>
            <a:ext cx="7721280" cy="1307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b5648"/>
              </a:solidFill>
              <a:latin typeface="Copperplate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711360" y="1942920"/>
            <a:ext cx="1883880" cy="4025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b5648"/>
              </a:solidFill>
              <a:latin typeface="Baskerville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2689920" y="1942920"/>
            <a:ext cx="188388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b5648"/>
              </a:solidFill>
              <a:latin typeface="Baskerville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2689920" y="4046040"/>
            <a:ext cx="188388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b5648"/>
              </a:solidFill>
              <a:latin typeface="Baskerville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711360" y="393480"/>
            <a:ext cx="7721280" cy="1307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b5648"/>
              </a:solidFill>
              <a:latin typeface="Copperplate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711360" y="1942920"/>
            <a:ext cx="188388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b5648"/>
              </a:solidFill>
              <a:latin typeface="Baskerville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2689920" y="1942920"/>
            <a:ext cx="188388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b5648"/>
              </a:solidFill>
              <a:latin typeface="Baskerville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711360" y="4046040"/>
            <a:ext cx="386064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b5648"/>
              </a:solidFill>
              <a:latin typeface="Baskerville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11360" y="393480"/>
            <a:ext cx="7721280" cy="1307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b5648"/>
              </a:solidFill>
              <a:latin typeface="Copperplat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11360" y="1942920"/>
            <a:ext cx="188388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b5648"/>
              </a:solidFill>
              <a:latin typeface="Baskerville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689920" y="1942920"/>
            <a:ext cx="1883880" cy="4025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b5648"/>
              </a:solidFill>
              <a:latin typeface="Baskerville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711360" y="4046040"/>
            <a:ext cx="188388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b5648"/>
              </a:solidFill>
              <a:latin typeface="Baskerville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711360" y="393480"/>
            <a:ext cx="7721280" cy="1307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b5648"/>
              </a:solidFill>
              <a:latin typeface="Copperplate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711360" y="1942920"/>
            <a:ext cx="386064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b5648"/>
              </a:solidFill>
              <a:latin typeface="Baskerville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711360" y="4046040"/>
            <a:ext cx="386064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b5648"/>
              </a:solidFill>
              <a:latin typeface="Baskerville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711360" y="393480"/>
            <a:ext cx="7721280" cy="1307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b5648"/>
              </a:solidFill>
              <a:latin typeface="Copperplat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711360" y="1942920"/>
            <a:ext cx="188388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b5648"/>
              </a:solidFill>
              <a:latin typeface="Baskervill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2689920" y="1942920"/>
            <a:ext cx="188388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b5648"/>
              </a:solidFill>
              <a:latin typeface="Baskervill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711360" y="4046040"/>
            <a:ext cx="188388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b5648"/>
              </a:solidFill>
              <a:latin typeface="Baskerville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2689920" y="4046040"/>
            <a:ext cx="188388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b5648"/>
              </a:solidFill>
              <a:latin typeface="Baskerville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711360" y="393480"/>
            <a:ext cx="7721280" cy="1307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b5648"/>
              </a:solidFill>
              <a:latin typeface="Copperplate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711360" y="1942920"/>
            <a:ext cx="124272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b5648"/>
              </a:solidFill>
              <a:latin typeface="Baskerville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2016720" y="1942920"/>
            <a:ext cx="124272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b5648"/>
              </a:solidFill>
              <a:latin typeface="Baskerville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3321720" y="1942920"/>
            <a:ext cx="124272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b5648"/>
              </a:solidFill>
              <a:latin typeface="Baskerville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711360" y="4046040"/>
            <a:ext cx="124272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b5648"/>
              </a:solidFill>
              <a:latin typeface="Baskerville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2016720" y="4046040"/>
            <a:ext cx="124272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b5648"/>
              </a:solidFill>
              <a:latin typeface="Baskerville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3321720" y="4046040"/>
            <a:ext cx="124272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b5648"/>
              </a:solidFill>
              <a:latin typeface="Baskerville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711360" y="393480"/>
            <a:ext cx="7721280" cy="1307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b5648"/>
              </a:solidFill>
              <a:latin typeface="Copperplate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711360" y="1942920"/>
            <a:ext cx="3860640" cy="402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b5648"/>
              </a:solidFill>
              <a:latin typeface="Baskerville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711360" y="393480"/>
            <a:ext cx="7721280" cy="1307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b5648"/>
              </a:solidFill>
              <a:latin typeface="Copperplat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711360" y="1942920"/>
            <a:ext cx="3860640" cy="4025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b5648"/>
              </a:solidFill>
              <a:latin typeface="Baskerville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711360" y="393480"/>
            <a:ext cx="7721280" cy="1307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b5648"/>
              </a:solidFill>
              <a:latin typeface="Copperplate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711360" y="1942920"/>
            <a:ext cx="1883880" cy="4025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b5648"/>
              </a:solidFill>
              <a:latin typeface="Baskerville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2689920" y="1942920"/>
            <a:ext cx="1883880" cy="4025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b5648"/>
              </a:solidFill>
              <a:latin typeface="Baskerville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711360" y="393480"/>
            <a:ext cx="7721280" cy="1307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b5648"/>
              </a:solidFill>
              <a:latin typeface="Copperplate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711360" y="393480"/>
            <a:ext cx="7721280" cy="606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200" spc="-1" strike="noStrike">
              <a:solidFill>
                <a:srgbClr val="5b5648"/>
              </a:solidFill>
              <a:latin typeface="Baskerville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711360" y="393480"/>
            <a:ext cx="7721280" cy="1307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b5648"/>
              </a:solidFill>
              <a:latin typeface="Copperplate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11360" y="1942920"/>
            <a:ext cx="188388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b5648"/>
              </a:solidFill>
              <a:latin typeface="Baskerville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2689920" y="1942920"/>
            <a:ext cx="1883880" cy="4025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b5648"/>
              </a:solidFill>
              <a:latin typeface="Baskerville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711360" y="4046040"/>
            <a:ext cx="188388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b5648"/>
              </a:solidFill>
              <a:latin typeface="Baskerville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11360" y="393480"/>
            <a:ext cx="7721280" cy="1307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b5648"/>
              </a:solidFill>
              <a:latin typeface="Copperplat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11360" y="1942920"/>
            <a:ext cx="1883880" cy="4025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b5648"/>
              </a:solidFill>
              <a:latin typeface="Baskervill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2689920" y="1942920"/>
            <a:ext cx="188388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b5648"/>
              </a:solidFill>
              <a:latin typeface="Baskerville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689920" y="4046040"/>
            <a:ext cx="188388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b5648"/>
              </a:solidFill>
              <a:latin typeface="Baskerville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711360" y="393480"/>
            <a:ext cx="7721280" cy="1307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b5648"/>
              </a:solidFill>
              <a:latin typeface="Copperplate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711360" y="1942920"/>
            <a:ext cx="1883880" cy="4025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b5648"/>
              </a:solidFill>
              <a:latin typeface="Baskerville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2689920" y="1942920"/>
            <a:ext cx="188388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b5648"/>
              </a:solidFill>
              <a:latin typeface="Baskerville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2689920" y="4046040"/>
            <a:ext cx="188388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b5648"/>
              </a:solidFill>
              <a:latin typeface="Baskerville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711360" y="393480"/>
            <a:ext cx="7721280" cy="1307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b5648"/>
              </a:solidFill>
              <a:latin typeface="Copperplate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711360" y="1942920"/>
            <a:ext cx="188388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b5648"/>
              </a:solidFill>
              <a:latin typeface="Baskerville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2689920" y="1942920"/>
            <a:ext cx="188388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b5648"/>
              </a:solidFill>
              <a:latin typeface="Baskerville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711360" y="4046040"/>
            <a:ext cx="386064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b5648"/>
              </a:solidFill>
              <a:latin typeface="Baskerville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711360" y="393480"/>
            <a:ext cx="7721280" cy="1307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b5648"/>
              </a:solidFill>
              <a:latin typeface="Copperplate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711360" y="1942920"/>
            <a:ext cx="386064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b5648"/>
              </a:solidFill>
              <a:latin typeface="Baskerville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711360" y="4046040"/>
            <a:ext cx="386064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b5648"/>
              </a:solidFill>
              <a:latin typeface="Baskerville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711360" y="393480"/>
            <a:ext cx="7721280" cy="1307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b5648"/>
              </a:solidFill>
              <a:latin typeface="Copperplate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711360" y="1942920"/>
            <a:ext cx="188388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b5648"/>
              </a:solidFill>
              <a:latin typeface="Baskerville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2689920" y="1942920"/>
            <a:ext cx="188388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b5648"/>
              </a:solidFill>
              <a:latin typeface="Baskerville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711360" y="4046040"/>
            <a:ext cx="188388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b5648"/>
              </a:solidFill>
              <a:latin typeface="Baskerville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2689920" y="4046040"/>
            <a:ext cx="188388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b5648"/>
              </a:solidFill>
              <a:latin typeface="Baskerville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711360" y="393480"/>
            <a:ext cx="7721280" cy="1307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b5648"/>
              </a:solidFill>
              <a:latin typeface="Copperplat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711360" y="1942920"/>
            <a:ext cx="124272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b5648"/>
              </a:solidFill>
              <a:latin typeface="Baskervill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2016720" y="1942920"/>
            <a:ext cx="124272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b5648"/>
              </a:solidFill>
              <a:latin typeface="Baskervill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3321720" y="1942920"/>
            <a:ext cx="124272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b5648"/>
              </a:solidFill>
              <a:latin typeface="Baskerville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711360" y="4046040"/>
            <a:ext cx="124272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b5648"/>
              </a:solidFill>
              <a:latin typeface="Baskerville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2016720" y="4046040"/>
            <a:ext cx="124272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b5648"/>
              </a:solidFill>
              <a:latin typeface="Baskerville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3321720" y="4046040"/>
            <a:ext cx="124272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b5648"/>
              </a:solidFill>
              <a:latin typeface="Baskerville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711360" y="393480"/>
            <a:ext cx="7721280" cy="1307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b5648"/>
              </a:solidFill>
              <a:latin typeface="Copperplat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711360" y="1942920"/>
            <a:ext cx="3860640" cy="402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b5648"/>
              </a:solidFill>
              <a:latin typeface="Baskerville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711360" y="393480"/>
            <a:ext cx="7721280" cy="1307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b5648"/>
              </a:solidFill>
              <a:latin typeface="Copperplate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711360" y="1942920"/>
            <a:ext cx="3860640" cy="4025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b5648"/>
              </a:solidFill>
              <a:latin typeface="Baskerville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711360" y="393480"/>
            <a:ext cx="7721280" cy="1307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b5648"/>
              </a:solidFill>
              <a:latin typeface="Copperplate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711360" y="1942920"/>
            <a:ext cx="1883880" cy="4025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b5648"/>
              </a:solidFill>
              <a:latin typeface="Baskerville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2689920" y="1942920"/>
            <a:ext cx="1883880" cy="4025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b5648"/>
              </a:solidFill>
              <a:latin typeface="Baskerville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711360" y="393480"/>
            <a:ext cx="7721280" cy="1307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b5648"/>
              </a:solidFill>
              <a:latin typeface="Copperplate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11360" y="393480"/>
            <a:ext cx="7721280" cy="1307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b5648"/>
              </a:solidFill>
              <a:latin typeface="Copperplat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11360" y="1942920"/>
            <a:ext cx="188388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b5648"/>
              </a:solidFill>
              <a:latin typeface="Baskerville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2689920" y="1942920"/>
            <a:ext cx="188388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b5648"/>
              </a:solidFill>
              <a:latin typeface="Baskerville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711360" y="4046040"/>
            <a:ext cx="386064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b5648"/>
              </a:solidFill>
              <a:latin typeface="Baskerville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711360" y="393480"/>
            <a:ext cx="7721280" cy="606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200" spc="-1" strike="noStrike">
              <a:solidFill>
                <a:srgbClr val="5b5648"/>
              </a:solidFill>
              <a:latin typeface="Baskerville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711360" y="393480"/>
            <a:ext cx="7721280" cy="1307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b5648"/>
              </a:solidFill>
              <a:latin typeface="Copperplat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711360" y="1942920"/>
            <a:ext cx="188388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b5648"/>
              </a:solidFill>
              <a:latin typeface="Baskerville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2689920" y="1942920"/>
            <a:ext cx="1883880" cy="4025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b5648"/>
              </a:solidFill>
              <a:latin typeface="Baskerville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711360" y="4046040"/>
            <a:ext cx="188388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b5648"/>
              </a:solidFill>
              <a:latin typeface="Baskerville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711360" y="393480"/>
            <a:ext cx="7721280" cy="1307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b5648"/>
              </a:solidFill>
              <a:latin typeface="Copperplate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711360" y="1942920"/>
            <a:ext cx="1883880" cy="4025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b5648"/>
              </a:solidFill>
              <a:latin typeface="Baskerville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2689920" y="1942920"/>
            <a:ext cx="188388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b5648"/>
              </a:solidFill>
              <a:latin typeface="Baskerville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2689920" y="4046040"/>
            <a:ext cx="188388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b5648"/>
              </a:solidFill>
              <a:latin typeface="Baskerville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711360" y="393480"/>
            <a:ext cx="7721280" cy="1307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b5648"/>
              </a:solidFill>
              <a:latin typeface="Copperplate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711360" y="1942920"/>
            <a:ext cx="188388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b5648"/>
              </a:solidFill>
              <a:latin typeface="Baskerville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2689920" y="1942920"/>
            <a:ext cx="188388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b5648"/>
              </a:solidFill>
              <a:latin typeface="Baskerville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711360" y="4046040"/>
            <a:ext cx="386064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b5648"/>
              </a:solidFill>
              <a:latin typeface="Baskerville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711360" y="393480"/>
            <a:ext cx="7721280" cy="1307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b5648"/>
              </a:solidFill>
              <a:latin typeface="Copperplate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711360" y="1942920"/>
            <a:ext cx="386064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b5648"/>
              </a:solidFill>
              <a:latin typeface="Baskerville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711360" y="4046040"/>
            <a:ext cx="386064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b5648"/>
              </a:solidFill>
              <a:latin typeface="Baskerville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711360" y="393480"/>
            <a:ext cx="7721280" cy="1307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b5648"/>
              </a:solidFill>
              <a:latin typeface="Copperplat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711360" y="1942920"/>
            <a:ext cx="188388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b5648"/>
              </a:solidFill>
              <a:latin typeface="Baskervill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2689920" y="1942920"/>
            <a:ext cx="188388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b5648"/>
              </a:solidFill>
              <a:latin typeface="Baskerville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711360" y="4046040"/>
            <a:ext cx="188388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b5648"/>
              </a:solidFill>
              <a:latin typeface="Baskerville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2689920" y="4046040"/>
            <a:ext cx="188388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b5648"/>
              </a:solidFill>
              <a:latin typeface="Baskerville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711360" y="393480"/>
            <a:ext cx="7721280" cy="1307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b5648"/>
              </a:solidFill>
              <a:latin typeface="Copperplat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711360" y="1942920"/>
            <a:ext cx="124272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b5648"/>
              </a:solidFill>
              <a:latin typeface="Baskervill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2016720" y="1942920"/>
            <a:ext cx="124272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b5648"/>
              </a:solidFill>
              <a:latin typeface="Baskervill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3321720" y="1942920"/>
            <a:ext cx="124272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b5648"/>
              </a:solidFill>
              <a:latin typeface="Baskerville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711360" y="4046040"/>
            <a:ext cx="124272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b5648"/>
              </a:solidFill>
              <a:latin typeface="Baskerville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2016720" y="4046040"/>
            <a:ext cx="124272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b5648"/>
              </a:solidFill>
              <a:latin typeface="Baskerville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3321720" y="4046040"/>
            <a:ext cx="124272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b5648"/>
              </a:solidFill>
              <a:latin typeface="Baskerville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711360" y="393480"/>
            <a:ext cx="7721280" cy="1307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b5648"/>
              </a:solidFill>
              <a:latin typeface="Copperplate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subTitle"/>
          </p:nvPr>
        </p:nvSpPr>
        <p:spPr>
          <a:xfrm>
            <a:off x="711360" y="1942920"/>
            <a:ext cx="3860640" cy="402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b5648"/>
              </a:solidFill>
              <a:latin typeface="Baskerville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711360" y="393480"/>
            <a:ext cx="7721280" cy="1307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b5648"/>
              </a:solidFill>
              <a:latin typeface="Copperplate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711360" y="1942920"/>
            <a:ext cx="3860640" cy="4025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b5648"/>
              </a:solidFill>
              <a:latin typeface="Baskerville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11360" y="393480"/>
            <a:ext cx="7721280" cy="1307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5b5648"/>
                </a:solidFill>
                <a:latin typeface="Copperplate"/>
              </a:rPr>
              <a:t>Click to edit the title text format</a:t>
            </a:r>
            <a:endParaRPr b="0" lang="en-US" sz="5000" spc="-1" strike="noStrike">
              <a:solidFill>
                <a:srgbClr val="5b5648"/>
              </a:solidFill>
              <a:latin typeface="Copperplat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11360" y="1942920"/>
            <a:ext cx="3860640" cy="4025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 fontScale="82000"/>
          </a:bodyPr>
          <a:p>
            <a:pPr marL="239400" indent="-239400">
              <a:spcBef>
                <a:spcPts val="2701"/>
              </a:spcBef>
              <a:buClr>
                <a:srgbClr val="908971"/>
              </a:buClr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b5648"/>
                </a:solidFill>
                <a:latin typeface="Baskerville"/>
              </a:rPr>
              <a:t>Click to edit the outline text format</a:t>
            </a:r>
            <a:endParaRPr b="0" lang="en-US" sz="2200" spc="-1" strike="noStrike">
              <a:solidFill>
                <a:srgbClr val="5b5648"/>
              </a:solidFill>
              <a:latin typeface="Baskerville"/>
            </a:endParaRPr>
          </a:p>
          <a:p>
            <a:pPr lvl="1" marL="489240" indent="-239400">
              <a:spcBef>
                <a:spcPts val="2701"/>
              </a:spcBef>
              <a:buClr>
                <a:srgbClr val="908971"/>
              </a:buClr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b5648"/>
                </a:solidFill>
                <a:latin typeface="Baskerville"/>
              </a:rPr>
              <a:t>Second Outline Level</a:t>
            </a:r>
            <a:endParaRPr b="0" lang="en-US" sz="2200" spc="-1" strike="noStrike">
              <a:solidFill>
                <a:srgbClr val="5b5648"/>
              </a:solidFill>
              <a:latin typeface="Baskerville"/>
            </a:endParaRPr>
          </a:p>
          <a:p>
            <a:pPr lvl="2" marL="770760" indent="-239400">
              <a:spcBef>
                <a:spcPts val="2701"/>
              </a:spcBef>
              <a:buClr>
                <a:srgbClr val="908971"/>
              </a:buClr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b5648"/>
                </a:solidFill>
                <a:latin typeface="Baskerville"/>
              </a:rPr>
              <a:t>Third Outline Level</a:t>
            </a:r>
            <a:endParaRPr b="0" lang="en-US" sz="2200" spc="-1" strike="noStrike">
              <a:solidFill>
                <a:srgbClr val="5b5648"/>
              </a:solidFill>
              <a:latin typeface="Baskerville"/>
            </a:endParaRPr>
          </a:p>
          <a:p>
            <a:pPr lvl="3" marL="1051560" indent="-239400">
              <a:spcBef>
                <a:spcPts val="2701"/>
              </a:spcBef>
              <a:buClr>
                <a:srgbClr val="908971"/>
              </a:buClr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b5648"/>
                </a:solidFill>
                <a:latin typeface="Baskerville"/>
              </a:rPr>
              <a:t>Fourth Outline Level</a:t>
            </a:r>
            <a:endParaRPr b="0" lang="en-US" sz="2200" spc="-1" strike="noStrike">
              <a:solidFill>
                <a:srgbClr val="5b5648"/>
              </a:solidFill>
              <a:latin typeface="Baskerville"/>
            </a:endParaRPr>
          </a:p>
          <a:p>
            <a:pPr lvl="4" marL="1333080" indent="-239400">
              <a:spcBef>
                <a:spcPts val="2701"/>
              </a:spcBef>
              <a:buClr>
                <a:srgbClr val="908971"/>
              </a:buClr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b5648"/>
                </a:solidFill>
                <a:latin typeface="Baskerville"/>
              </a:rPr>
              <a:t>Fifth Outline Level</a:t>
            </a:r>
            <a:endParaRPr b="0" lang="en-US" sz="2200" spc="-1" strike="noStrike">
              <a:solidFill>
                <a:srgbClr val="5b5648"/>
              </a:solidFill>
              <a:latin typeface="Baskerville"/>
            </a:endParaRPr>
          </a:p>
          <a:p>
            <a:pPr lvl="5" marL="1333080" indent="-239400">
              <a:spcBef>
                <a:spcPts val="2701"/>
              </a:spcBef>
              <a:buClr>
                <a:srgbClr val="5b5648"/>
              </a:buClr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b5648"/>
                </a:solidFill>
                <a:latin typeface="Baskerville"/>
              </a:rPr>
              <a:t>Sixth Outline Level</a:t>
            </a:r>
            <a:endParaRPr b="0" lang="en-US" sz="2200" spc="-1" strike="noStrike">
              <a:solidFill>
                <a:srgbClr val="5b5648"/>
              </a:solidFill>
              <a:latin typeface="Baskerville"/>
            </a:endParaRPr>
          </a:p>
          <a:p>
            <a:pPr lvl="6" marL="1333080" indent="-239400">
              <a:spcBef>
                <a:spcPts val="2701"/>
              </a:spcBef>
              <a:buClr>
                <a:srgbClr val="5b5648"/>
              </a:buClr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b5648"/>
                </a:solidFill>
                <a:latin typeface="Baskerville"/>
              </a:rPr>
              <a:t>Seventh Outline Level</a:t>
            </a:r>
            <a:endParaRPr b="0" lang="en-US" sz="2200" spc="-1" strike="noStrike">
              <a:solidFill>
                <a:srgbClr val="5b5648"/>
              </a:solidFill>
              <a:latin typeface="Baskervill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body"/>
          </p:nvPr>
        </p:nvSpPr>
        <p:spPr>
          <a:xfrm>
            <a:off x="711360" y="888840"/>
            <a:ext cx="7721280" cy="5080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 fontScale="89000"/>
          </a:bodyPr>
          <a:p>
            <a:pPr marL="259560" indent="-259560">
              <a:spcBef>
                <a:spcPts val="3699"/>
              </a:spcBef>
              <a:buClr>
                <a:srgbClr val="908971"/>
              </a:buClr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b5648"/>
                </a:solidFill>
                <a:latin typeface="Baskerville"/>
              </a:rPr>
              <a:t>Click to edit the outline text format</a:t>
            </a:r>
            <a:endParaRPr b="0" lang="en-US" sz="2600" spc="-1" strike="noStrike">
              <a:solidFill>
                <a:srgbClr val="5b5648"/>
              </a:solidFill>
              <a:latin typeface="Baskerville"/>
            </a:endParaRPr>
          </a:p>
          <a:p>
            <a:pPr lvl="1" marL="531000" indent="-259560">
              <a:spcBef>
                <a:spcPts val="3699"/>
              </a:spcBef>
              <a:buClr>
                <a:srgbClr val="908971"/>
              </a:buClr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b5648"/>
                </a:solidFill>
                <a:latin typeface="Baskerville"/>
              </a:rPr>
              <a:t>Second Outline Level</a:t>
            </a:r>
            <a:endParaRPr b="0" lang="en-US" sz="2600" spc="-1" strike="noStrike">
              <a:solidFill>
                <a:srgbClr val="5b5648"/>
              </a:solidFill>
              <a:latin typeface="Baskerville"/>
            </a:endParaRPr>
          </a:p>
          <a:p>
            <a:pPr lvl="2" marL="836280" indent="-259920">
              <a:spcBef>
                <a:spcPts val="3699"/>
              </a:spcBef>
              <a:buClr>
                <a:srgbClr val="908971"/>
              </a:buClr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b5648"/>
                </a:solidFill>
                <a:latin typeface="Baskerville"/>
              </a:rPr>
              <a:t>Third Outline Level</a:t>
            </a:r>
            <a:endParaRPr b="0" lang="en-US" sz="2600" spc="-1" strike="noStrike">
              <a:solidFill>
                <a:srgbClr val="5b5648"/>
              </a:solidFill>
              <a:latin typeface="Baskerville"/>
            </a:endParaRPr>
          </a:p>
          <a:p>
            <a:pPr lvl="3" marL="1141560" indent="-259560">
              <a:spcBef>
                <a:spcPts val="3699"/>
              </a:spcBef>
              <a:buClr>
                <a:srgbClr val="908971"/>
              </a:buClr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b5648"/>
                </a:solidFill>
                <a:latin typeface="Baskerville"/>
              </a:rPr>
              <a:t>Fourth Outline Level</a:t>
            </a:r>
            <a:endParaRPr b="0" lang="en-US" sz="2600" spc="-1" strike="noStrike">
              <a:solidFill>
                <a:srgbClr val="5b5648"/>
              </a:solidFill>
              <a:latin typeface="Baskerville"/>
            </a:endParaRPr>
          </a:p>
          <a:p>
            <a:pPr lvl="4" marL="1446840" indent="-259920">
              <a:spcBef>
                <a:spcPts val="3699"/>
              </a:spcBef>
              <a:buClr>
                <a:srgbClr val="908971"/>
              </a:buClr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b5648"/>
                </a:solidFill>
                <a:latin typeface="Baskerville"/>
              </a:rPr>
              <a:t>Fifth Outline Level</a:t>
            </a:r>
            <a:endParaRPr b="0" lang="en-US" sz="2600" spc="-1" strike="noStrike">
              <a:solidFill>
                <a:srgbClr val="5b5648"/>
              </a:solidFill>
              <a:latin typeface="Baskerville"/>
            </a:endParaRPr>
          </a:p>
          <a:p>
            <a:pPr lvl="5" marL="1446840" indent="-259920">
              <a:spcBef>
                <a:spcPts val="3699"/>
              </a:spcBef>
              <a:buClr>
                <a:srgbClr val="5b5648"/>
              </a:buClr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b5648"/>
                </a:solidFill>
                <a:latin typeface="Baskerville"/>
              </a:rPr>
              <a:t>Sixth Outline Level</a:t>
            </a:r>
            <a:endParaRPr b="0" lang="en-US" sz="2600" spc="-1" strike="noStrike">
              <a:solidFill>
                <a:srgbClr val="5b5648"/>
              </a:solidFill>
              <a:latin typeface="Baskerville"/>
            </a:endParaRPr>
          </a:p>
          <a:p>
            <a:pPr lvl="6" marL="1446840" indent="-259920">
              <a:spcBef>
                <a:spcPts val="3699"/>
              </a:spcBef>
              <a:buClr>
                <a:srgbClr val="5b5648"/>
              </a:buClr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b5648"/>
                </a:solidFill>
                <a:latin typeface="Baskerville"/>
              </a:rPr>
              <a:t>Seventh Outline Level</a:t>
            </a:r>
            <a:endParaRPr b="0" lang="en-US" sz="2600" spc="-1" strike="noStrike">
              <a:solidFill>
                <a:srgbClr val="5b5648"/>
              </a:solidFill>
              <a:latin typeface="Baskervill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711360" y="393480"/>
            <a:ext cx="7721280" cy="1307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5b5648"/>
                </a:solidFill>
                <a:latin typeface="Copperplate"/>
              </a:rPr>
              <a:t>Click to edit the title text format</a:t>
            </a:r>
            <a:endParaRPr b="0" lang="en-US" sz="5000" spc="-1" strike="noStrike">
              <a:solidFill>
                <a:srgbClr val="5b5648"/>
              </a:solidFill>
              <a:latin typeface="Copperplate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711360" y="1942920"/>
            <a:ext cx="7721280" cy="4025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94000"/>
          </a:bodyPr>
          <a:p>
            <a:pPr marL="274320" indent="-274320">
              <a:spcBef>
                <a:spcPts val="2401"/>
              </a:spcBef>
              <a:buClr>
                <a:srgbClr val="908971"/>
              </a:buClr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b5648"/>
                </a:solidFill>
                <a:latin typeface="Baskerville"/>
              </a:rPr>
              <a:t>Click to edit the outline text format</a:t>
            </a:r>
            <a:endParaRPr b="0" lang="en-US" sz="2200" spc="-1" strike="noStrike">
              <a:solidFill>
                <a:srgbClr val="5b5648"/>
              </a:solidFill>
              <a:latin typeface="Baskerville"/>
            </a:endParaRPr>
          </a:p>
          <a:p>
            <a:pPr lvl="1" marL="560880" indent="-274320">
              <a:spcBef>
                <a:spcPts val="2401"/>
              </a:spcBef>
              <a:buClr>
                <a:srgbClr val="908971"/>
              </a:buClr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b5648"/>
                </a:solidFill>
                <a:latin typeface="Baskerville"/>
              </a:rPr>
              <a:t>Second Outline Level</a:t>
            </a:r>
            <a:endParaRPr b="0" lang="en-US" sz="2200" spc="-1" strike="noStrike">
              <a:solidFill>
                <a:srgbClr val="5b5648"/>
              </a:solidFill>
              <a:latin typeface="Baskerville"/>
            </a:endParaRPr>
          </a:p>
          <a:p>
            <a:pPr lvl="2" marL="883440" indent="-274680">
              <a:spcBef>
                <a:spcPts val="2401"/>
              </a:spcBef>
              <a:buClr>
                <a:srgbClr val="908971"/>
              </a:buClr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b5648"/>
                </a:solidFill>
                <a:latin typeface="Baskerville"/>
              </a:rPr>
              <a:t>Third Outline Level</a:t>
            </a:r>
            <a:endParaRPr b="0" lang="en-US" sz="2200" spc="-1" strike="noStrike">
              <a:solidFill>
                <a:srgbClr val="5b5648"/>
              </a:solidFill>
              <a:latin typeface="Baskerville"/>
            </a:endParaRPr>
          </a:p>
          <a:p>
            <a:pPr lvl="3" marL="1205640" indent="-274320">
              <a:spcBef>
                <a:spcPts val="2401"/>
              </a:spcBef>
              <a:buClr>
                <a:srgbClr val="908971"/>
              </a:buClr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b5648"/>
                </a:solidFill>
                <a:latin typeface="Baskerville"/>
              </a:rPr>
              <a:t>Fourth Outline Level</a:t>
            </a:r>
            <a:endParaRPr b="0" lang="en-US" sz="2200" spc="-1" strike="noStrike">
              <a:solidFill>
                <a:srgbClr val="5b5648"/>
              </a:solidFill>
              <a:latin typeface="Baskerville"/>
            </a:endParaRPr>
          </a:p>
          <a:p>
            <a:pPr lvl="4" marL="1528200" indent="-274680">
              <a:spcBef>
                <a:spcPts val="2401"/>
              </a:spcBef>
              <a:buClr>
                <a:srgbClr val="908971"/>
              </a:buClr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b5648"/>
                </a:solidFill>
                <a:latin typeface="Baskerville"/>
              </a:rPr>
              <a:t>Fifth Outline Level</a:t>
            </a:r>
            <a:endParaRPr b="0" lang="en-US" sz="2200" spc="-1" strike="noStrike">
              <a:solidFill>
                <a:srgbClr val="5b5648"/>
              </a:solidFill>
              <a:latin typeface="Baskerville"/>
            </a:endParaRPr>
          </a:p>
          <a:p>
            <a:pPr lvl="5" marL="1528200" indent="-274680">
              <a:spcBef>
                <a:spcPts val="2401"/>
              </a:spcBef>
              <a:buClr>
                <a:srgbClr val="5b5648"/>
              </a:buClr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b5648"/>
                </a:solidFill>
                <a:latin typeface="Baskerville"/>
              </a:rPr>
              <a:t>Sixth Outline Level</a:t>
            </a:r>
            <a:endParaRPr b="0" lang="en-US" sz="2200" spc="-1" strike="noStrike">
              <a:solidFill>
                <a:srgbClr val="5b5648"/>
              </a:solidFill>
              <a:latin typeface="Baskerville"/>
            </a:endParaRPr>
          </a:p>
          <a:p>
            <a:pPr lvl="6" marL="1528200" indent="-274680">
              <a:spcBef>
                <a:spcPts val="2401"/>
              </a:spcBef>
              <a:buClr>
                <a:srgbClr val="5b5648"/>
              </a:buClr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b5648"/>
                </a:solidFill>
                <a:latin typeface="Baskerville"/>
              </a:rPr>
              <a:t>Seventh Outline Level</a:t>
            </a:r>
            <a:endParaRPr b="0" lang="en-US" sz="2200" spc="-1" strike="noStrike">
              <a:solidFill>
                <a:srgbClr val="5b5648"/>
              </a:solidFill>
              <a:latin typeface="Baskervill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711360" y="393480"/>
            <a:ext cx="7721280" cy="1307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5b5648"/>
                </a:solidFill>
                <a:latin typeface="Copperplate"/>
              </a:rPr>
              <a:t>Click to edit the title text format</a:t>
            </a:r>
            <a:endParaRPr b="0" lang="en-US" sz="5000" spc="-1" strike="noStrike">
              <a:solidFill>
                <a:srgbClr val="5b5648"/>
              </a:solidFill>
              <a:latin typeface="Copperplate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711360" y="1942920"/>
            <a:ext cx="3860640" cy="4025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 fontScale="82000"/>
          </a:bodyPr>
          <a:p>
            <a:pPr marL="239400" indent="-239400">
              <a:spcBef>
                <a:spcPts val="2701"/>
              </a:spcBef>
              <a:buClr>
                <a:srgbClr val="908971"/>
              </a:buClr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b5648"/>
                </a:solidFill>
                <a:latin typeface="Baskerville"/>
              </a:rPr>
              <a:t>Click to edit the outline text format</a:t>
            </a:r>
            <a:endParaRPr b="0" lang="en-US" sz="2200" spc="-1" strike="noStrike">
              <a:solidFill>
                <a:srgbClr val="5b5648"/>
              </a:solidFill>
              <a:latin typeface="Baskerville"/>
            </a:endParaRPr>
          </a:p>
          <a:p>
            <a:pPr lvl="1" marL="489240" indent="-239400">
              <a:spcBef>
                <a:spcPts val="2701"/>
              </a:spcBef>
              <a:buClr>
                <a:srgbClr val="908971"/>
              </a:buClr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b5648"/>
                </a:solidFill>
                <a:latin typeface="Baskerville"/>
              </a:rPr>
              <a:t>Second Outline Level</a:t>
            </a:r>
            <a:endParaRPr b="0" lang="en-US" sz="2200" spc="-1" strike="noStrike">
              <a:solidFill>
                <a:srgbClr val="5b5648"/>
              </a:solidFill>
              <a:latin typeface="Baskerville"/>
            </a:endParaRPr>
          </a:p>
          <a:p>
            <a:pPr lvl="2" marL="770760" indent="-239400">
              <a:spcBef>
                <a:spcPts val="2701"/>
              </a:spcBef>
              <a:buClr>
                <a:srgbClr val="908971"/>
              </a:buClr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b5648"/>
                </a:solidFill>
                <a:latin typeface="Baskerville"/>
              </a:rPr>
              <a:t>Third Outline Level</a:t>
            </a:r>
            <a:endParaRPr b="0" lang="en-US" sz="2200" spc="-1" strike="noStrike">
              <a:solidFill>
                <a:srgbClr val="5b5648"/>
              </a:solidFill>
              <a:latin typeface="Baskerville"/>
            </a:endParaRPr>
          </a:p>
          <a:p>
            <a:pPr lvl="3" marL="1051560" indent="-239400">
              <a:spcBef>
                <a:spcPts val="2701"/>
              </a:spcBef>
              <a:buClr>
                <a:srgbClr val="908971"/>
              </a:buClr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b5648"/>
                </a:solidFill>
                <a:latin typeface="Baskerville"/>
              </a:rPr>
              <a:t>Fourth Outline Level</a:t>
            </a:r>
            <a:endParaRPr b="0" lang="en-US" sz="2200" spc="-1" strike="noStrike">
              <a:solidFill>
                <a:srgbClr val="5b5648"/>
              </a:solidFill>
              <a:latin typeface="Baskerville"/>
            </a:endParaRPr>
          </a:p>
          <a:p>
            <a:pPr lvl="4" marL="1333080" indent="-239400">
              <a:spcBef>
                <a:spcPts val="2701"/>
              </a:spcBef>
              <a:buClr>
                <a:srgbClr val="908971"/>
              </a:buClr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b5648"/>
                </a:solidFill>
                <a:latin typeface="Baskerville"/>
              </a:rPr>
              <a:t>Fifth Outline Level</a:t>
            </a:r>
            <a:endParaRPr b="0" lang="en-US" sz="2200" spc="-1" strike="noStrike">
              <a:solidFill>
                <a:srgbClr val="5b5648"/>
              </a:solidFill>
              <a:latin typeface="Baskerville"/>
            </a:endParaRPr>
          </a:p>
          <a:p>
            <a:pPr lvl="5" marL="1333080" indent="-239400">
              <a:spcBef>
                <a:spcPts val="2701"/>
              </a:spcBef>
              <a:buClr>
                <a:srgbClr val="5b5648"/>
              </a:buClr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b5648"/>
                </a:solidFill>
                <a:latin typeface="Baskerville"/>
              </a:rPr>
              <a:t>Sixth Outline Level</a:t>
            </a:r>
            <a:endParaRPr b="0" lang="en-US" sz="2200" spc="-1" strike="noStrike">
              <a:solidFill>
                <a:srgbClr val="5b5648"/>
              </a:solidFill>
              <a:latin typeface="Baskerville"/>
            </a:endParaRPr>
          </a:p>
          <a:p>
            <a:pPr lvl="6" marL="1333080" indent="-239400">
              <a:spcBef>
                <a:spcPts val="2701"/>
              </a:spcBef>
              <a:buClr>
                <a:srgbClr val="5b5648"/>
              </a:buClr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b5648"/>
                </a:solidFill>
                <a:latin typeface="Baskerville"/>
              </a:rPr>
              <a:t>Seventh Outline Level</a:t>
            </a:r>
            <a:endParaRPr b="0" lang="en-US" sz="2200" spc="-1" strike="noStrike">
              <a:solidFill>
                <a:srgbClr val="5b5648"/>
              </a:solidFill>
              <a:latin typeface="Baskervill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11360" y="393480"/>
            <a:ext cx="7721280" cy="1307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5b5648"/>
                </a:solidFill>
                <a:latin typeface="Copperplate"/>
              </a:rPr>
              <a:t>Click to edit the title text format</a:t>
            </a:r>
            <a:endParaRPr b="0" lang="en-US" sz="5000" spc="-1" strike="noStrike">
              <a:solidFill>
                <a:srgbClr val="5b5648"/>
              </a:solidFill>
              <a:latin typeface="Copperplate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5473800" y="1942920"/>
            <a:ext cx="2946240" cy="4025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 fontScale="70000"/>
          </a:bodyPr>
          <a:p>
            <a:pPr marL="204120" indent="-204120">
              <a:spcBef>
                <a:spcPts val="2701"/>
              </a:spcBef>
              <a:buClr>
                <a:srgbClr val="908971"/>
              </a:buClr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b5648"/>
                </a:solidFill>
                <a:latin typeface="Baskerville"/>
              </a:rPr>
              <a:t>Click to edit the outline text format</a:t>
            </a:r>
            <a:endParaRPr b="0" lang="en-US" sz="2200" spc="-1" strike="noStrike">
              <a:solidFill>
                <a:srgbClr val="5b5648"/>
              </a:solidFill>
              <a:latin typeface="Baskerville"/>
            </a:endParaRPr>
          </a:p>
          <a:p>
            <a:pPr lvl="1" marL="417600" indent="-204120">
              <a:spcBef>
                <a:spcPts val="2701"/>
              </a:spcBef>
              <a:buClr>
                <a:srgbClr val="908971"/>
              </a:buClr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b5648"/>
                </a:solidFill>
                <a:latin typeface="Baskerville"/>
              </a:rPr>
              <a:t>Second Outline Level</a:t>
            </a:r>
            <a:endParaRPr b="0" lang="en-US" sz="2200" spc="-1" strike="noStrike">
              <a:solidFill>
                <a:srgbClr val="5b5648"/>
              </a:solidFill>
              <a:latin typeface="Baskerville"/>
            </a:endParaRPr>
          </a:p>
          <a:p>
            <a:pPr lvl="2" marL="657720" indent="-204480">
              <a:spcBef>
                <a:spcPts val="2701"/>
              </a:spcBef>
              <a:buClr>
                <a:srgbClr val="908971"/>
              </a:buClr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b5648"/>
                </a:solidFill>
                <a:latin typeface="Baskerville"/>
              </a:rPr>
              <a:t>Third Outline Level</a:t>
            </a:r>
            <a:endParaRPr b="0" lang="en-US" sz="2200" spc="-1" strike="noStrike">
              <a:solidFill>
                <a:srgbClr val="5b5648"/>
              </a:solidFill>
              <a:latin typeface="Baskerville"/>
            </a:endParaRPr>
          </a:p>
          <a:p>
            <a:pPr lvl="3" marL="897840" indent="-204120">
              <a:spcBef>
                <a:spcPts val="2701"/>
              </a:spcBef>
              <a:buClr>
                <a:srgbClr val="908971"/>
              </a:buClr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b5648"/>
                </a:solidFill>
                <a:latin typeface="Baskerville"/>
              </a:rPr>
              <a:t>Fourth Outline Level</a:t>
            </a:r>
            <a:endParaRPr b="0" lang="en-US" sz="2200" spc="-1" strike="noStrike">
              <a:solidFill>
                <a:srgbClr val="5b5648"/>
              </a:solidFill>
              <a:latin typeface="Baskerville"/>
            </a:endParaRPr>
          </a:p>
          <a:p>
            <a:pPr lvl="4" marL="1137960" indent="-204480">
              <a:spcBef>
                <a:spcPts val="2701"/>
              </a:spcBef>
              <a:buClr>
                <a:srgbClr val="908971"/>
              </a:buClr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b5648"/>
                </a:solidFill>
                <a:latin typeface="Baskerville"/>
              </a:rPr>
              <a:t>Fifth Outline Level</a:t>
            </a:r>
            <a:endParaRPr b="0" lang="en-US" sz="2200" spc="-1" strike="noStrike">
              <a:solidFill>
                <a:srgbClr val="5b5648"/>
              </a:solidFill>
              <a:latin typeface="Baskerville"/>
            </a:endParaRPr>
          </a:p>
          <a:p>
            <a:pPr lvl="5" marL="1137960" indent="-204480">
              <a:spcBef>
                <a:spcPts val="2701"/>
              </a:spcBef>
              <a:buClr>
                <a:srgbClr val="5b5648"/>
              </a:buClr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b5648"/>
                </a:solidFill>
                <a:latin typeface="Baskerville"/>
              </a:rPr>
              <a:t>Sixth Outline Level</a:t>
            </a:r>
            <a:endParaRPr b="0" lang="en-US" sz="2200" spc="-1" strike="noStrike">
              <a:solidFill>
                <a:srgbClr val="5b5648"/>
              </a:solidFill>
              <a:latin typeface="Baskerville"/>
            </a:endParaRPr>
          </a:p>
          <a:p>
            <a:pPr lvl="6" marL="1137960" indent="-204480">
              <a:spcBef>
                <a:spcPts val="2701"/>
              </a:spcBef>
              <a:buClr>
                <a:srgbClr val="5b5648"/>
              </a:buClr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b5648"/>
                </a:solidFill>
                <a:latin typeface="Baskerville"/>
              </a:rPr>
              <a:t>Seventh Outline Level</a:t>
            </a:r>
            <a:endParaRPr b="0" lang="en-US" sz="2200" spc="-1" strike="noStrike">
              <a:solidFill>
                <a:srgbClr val="5b5648"/>
              </a:solidFill>
              <a:latin typeface="Baskervill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11360" y="393480"/>
            <a:ext cx="7721280" cy="1307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5b5648"/>
                </a:solidFill>
                <a:latin typeface="Copperplate"/>
              </a:rPr>
              <a:t>Click to edit the title text format</a:t>
            </a:r>
            <a:endParaRPr b="0" lang="en-US" sz="5000" spc="-1" strike="noStrike">
              <a:solidFill>
                <a:srgbClr val="5b5648"/>
              </a:solidFill>
              <a:latin typeface="Copperplat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711360" y="1942920"/>
            <a:ext cx="7721280" cy="4025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 fontScale="90000"/>
          </a:bodyPr>
          <a:p>
            <a:pPr marL="262440" indent="-262440">
              <a:spcBef>
                <a:spcPts val="2100"/>
              </a:spcBef>
              <a:buClr>
                <a:srgbClr val="908971"/>
              </a:buClr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b5648"/>
                </a:solidFill>
                <a:latin typeface="Baskerville"/>
              </a:rPr>
              <a:t>Click to edit the outline text format</a:t>
            </a:r>
            <a:endParaRPr b="0" lang="en-US" sz="2600" spc="-1" strike="noStrike">
              <a:solidFill>
                <a:srgbClr val="5b5648"/>
              </a:solidFill>
              <a:latin typeface="Baskerville"/>
            </a:endParaRPr>
          </a:p>
          <a:p>
            <a:pPr lvl="1" marL="537120" indent="-262440">
              <a:spcBef>
                <a:spcPts val="2100"/>
              </a:spcBef>
              <a:buClr>
                <a:srgbClr val="908971"/>
              </a:buClr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b5648"/>
                </a:solidFill>
                <a:latin typeface="Baskerville"/>
              </a:rPr>
              <a:t>Second Outline Level</a:t>
            </a:r>
            <a:endParaRPr b="0" lang="en-US" sz="2600" spc="-1" strike="noStrike">
              <a:solidFill>
                <a:srgbClr val="5b5648"/>
              </a:solidFill>
              <a:latin typeface="Baskerville"/>
            </a:endParaRPr>
          </a:p>
          <a:p>
            <a:pPr lvl="2" marL="845640" indent="-262800">
              <a:spcBef>
                <a:spcPts val="2100"/>
              </a:spcBef>
              <a:buClr>
                <a:srgbClr val="908971"/>
              </a:buClr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b5648"/>
                </a:solidFill>
                <a:latin typeface="Baskerville"/>
              </a:rPr>
              <a:t>Third Outline Level</a:t>
            </a:r>
            <a:endParaRPr b="0" lang="en-US" sz="2600" spc="-1" strike="noStrike">
              <a:solidFill>
                <a:srgbClr val="5b5648"/>
              </a:solidFill>
              <a:latin typeface="Baskerville"/>
            </a:endParaRPr>
          </a:p>
          <a:p>
            <a:pPr lvl="3" marL="1154160" indent="-262440">
              <a:spcBef>
                <a:spcPts val="2100"/>
              </a:spcBef>
              <a:buClr>
                <a:srgbClr val="908971"/>
              </a:buClr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b5648"/>
                </a:solidFill>
                <a:latin typeface="Baskerville"/>
              </a:rPr>
              <a:t>Fourth Outline Level</a:t>
            </a:r>
            <a:endParaRPr b="0" lang="en-US" sz="2600" spc="-1" strike="noStrike">
              <a:solidFill>
                <a:srgbClr val="5b5648"/>
              </a:solidFill>
              <a:latin typeface="Baskerville"/>
            </a:endParaRPr>
          </a:p>
          <a:p>
            <a:pPr lvl="4" marL="1463040" indent="-262800">
              <a:spcBef>
                <a:spcPts val="2100"/>
              </a:spcBef>
              <a:buClr>
                <a:srgbClr val="908971"/>
              </a:buClr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b5648"/>
                </a:solidFill>
                <a:latin typeface="Baskerville"/>
              </a:rPr>
              <a:t>Fifth Outline Level</a:t>
            </a:r>
            <a:endParaRPr b="0" lang="en-US" sz="2600" spc="-1" strike="noStrike">
              <a:solidFill>
                <a:srgbClr val="5b5648"/>
              </a:solidFill>
              <a:latin typeface="Baskerville"/>
            </a:endParaRPr>
          </a:p>
          <a:p>
            <a:pPr lvl="5" marL="1463040" indent="-262800">
              <a:spcBef>
                <a:spcPts val="2100"/>
              </a:spcBef>
              <a:buClr>
                <a:srgbClr val="5b5648"/>
              </a:buClr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b5648"/>
                </a:solidFill>
                <a:latin typeface="Baskerville"/>
              </a:rPr>
              <a:t>Sixth Outline Level</a:t>
            </a:r>
            <a:endParaRPr b="0" lang="en-US" sz="2600" spc="-1" strike="noStrike">
              <a:solidFill>
                <a:srgbClr val="5b5648"/>
              </a:solidFill>
              <a:latin typeface="Baskerville"/>
            </a:endParaRPr>
          </a:p>
          <a:p>
            <a:pPr lvl="6" marL="1463040" indent="-262800">
              <a:spcBef>
                <a:spcPts val="2100"/>
              </a:spcBef>
              <a:buClr>
                <a:srgbClr val="5b5648"/>
              </a:buClr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b5648"/>
                </a:solidFill>
                <a:latin typeface="Baskerville"/>
              </a:rPr>
              <a:t>Seventh Outline Level</a:t>
            </a:r>
            <a:endParaRPr b="0" lang="en-US" sz="2600" spc="-1" strike="noStrike">
              <a:solidFill>
                <a:srgbClr val="5b5648"/>
              </a:solidFill>
              <a:latin typeface="Baskervill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11360" y="393480"/>
            <a:ext cx="7721280" cy="1307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5b5648"/>
                </a:solidFill>
                <a:latin typeface="Copperplate"/>
              </a:rPr>
              <a:t>Click to edit the title text format</a:t>
            </a:r>
            <a:endParaRPr b="0" lang="en-US" sz="5000" spc="-1" strike="noStrike">
              <a:solidFill>
                <a:srgbClr val="5b5648"/>
              </a:solidFill>
              <a:latin typeface="Copperplat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711360" y="2298600"/>
            <a:ext cx="7721280" cy="2260800"/>
          </a:xfrm>
          <a:prstGeom prst="rect">
            <a:avLst/>
          </a:prstGeom>
          <a:noFill/>
          <a:ln w="0">
            <a:noFill/>
          </a:ln>
          <a:effectLst>
            <a:outerShdw dist="50911" dir="13500000" blurRad="0" rotWithShape="0">
              <a:srgbClr val="333333">
                <a:alpha val="50000"/>
              </a:srgbClr>
            </a:outerShdw>
          </a:effectLst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bef"/>
                </a:solidFill>
                <a:latin typeface="Copperplate"/>
              </a:rPr>
              <a:t>Click to edit the title text format</a:t>
            </a:r>
            <a:endParaRPr b="0" lang="en-US" sz="7200" spc="-1" strike="noStrike">
              <a:solidFill>
                <a:srgbClr val="fffbef"/>
              </a:solidFill>
              <a:latin typeface="Copperplat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711360" y="1434960"/>
            <a:ext cx="7721280" cy="2260800"/>
          </a:xfrm>
          <a:prstGeom prst="rect">
            <a:avLst/>
          </a:prstGeom>
          <a:noFill/>
          <a:ln w="0">
            <a:noFill/>
          </a:ln>
          <a:effectLst>
            <a:outerShdw dist="50911" dir="13500000" blurRad="0" rotWithShape="0">
              <a:srgbClr val="333333">
                <a:alpha val="50000"/>
              </a:srgbClr>
            </a:outerShdw>
          </a:effectLst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bef"/>
                </a:solidFill>
                <a:latin typeface="Copperplate"/>
              </a:rPr>
              <a:t>Click to edit the title text format</a:t>
            </a:r>
            <a:endParaRPr b="0" lang="en-US" sz="7200" spc="-1" strike="noStrike">
              <a:solidFill>
                <a:srgbClr val="fffbef"/>
              </a:solidFill>
              <a:latin typeface="Copperplat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711360" y="3772080"/>
            <a:ext cx="7721280" cy="863280"/>
          </a:xfrm>
          <a:prstGeom prst="rect">
            <a:avLst/>
          </a:prstGeom>
          <a:noFill/>
          <a:ln w="0">
            <a:noFill/>
          </a:ln>
          <a:effectLst>
            <a:outerShdw dist="25455" dir="13500000" blurRad="0" rotWithShape="0">
              <a:srgbClr val="333333">
                <a:alpha val="50000"/>
              </a:srgbClr>
            </a:outerShdw>
          </a:effectLst>
        </p:spPr>
        <p:txBody>
          <a:bodyPr lIns="38160" rIns="38160" tIns="38160" bIns="38160" anchor="t">
            <a:normAutofit fontScale="26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bef"/>
                </a:solidFill>
                <a:latin typeface="Copperplate"/>
              </a:rPr>
              <a:t>Click to edit the outline text format</a:t>
            </a:r>
            <a:endParaRPr b="0" lang="en-US" sz="2800" spc="-1" strike="noStrike">
              <a:solidFill>
                <a:srgbClr val="fffbef"/>
              </a:solidFill>
              <a:latin typeface="Copperplate"/>
            </a:endParaRPr>
          </a:p>
          <a:p>
            <a:pPr lvl="1" algn="ctr">
              <a:buClr>
                <a:srgbClr val="fffbef"/>
              </a:buClr>
              <a:buFont typeface="Copperplat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bef"/>
                </a:solidFill>
                <a:latin typeface="Copperplate"/>
              </a:rPr>
              <a:t>Second Outline Level</a:t>
            </a:r>
            <a:endParaRPr b="0" lang="en-US" sz="2800" spc="-1" strike="noStrike">
              <a:solidFill>
                <a:srgbClr val="fffbef"/>
              </a:solidFill>
              <a:latin typeface="Copperplate"/>
            </a:endParaRPr>
          </a:p>
          <a:p>
            <a:pPr lvl="2" algn="ctr">
              <a:buClr>
                <a:srgbClr val="fffbef"/>
              </a:buClr>
              <a:buFont typeface="Copperplat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bef"/>
                </a:solidFill>
                <a:latin typeface="Copperplate"/>
              </a:rPr>
              <a:t>Third Outline Level</a:t>
            </a:r>
            <a:endParaRPr b="0" lang="en-US" sz="2800" spc="-1" strike="noStrike">
              <a:solidFill>
                <a:srgbClr val="fffbef"/>
              </a:solidFill>
              <a:latin typeface="Copperplate"/>
            </a:endParaRPr>
          </a:p>
          <a:p>
            <a:pPr lvl="3" algn="ctr">
              <a:buClr>
                <a:srgbClr val="fffbef"/>
              </a:buClr>
              <a:buFont typeface="Copperplat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bef"/>
                </a:solidFill>
                <a:latin typeface="Copperplate"/>
              </a:rPr>
              <a:t>Fourth Outline Level</a:t>
            </a:r>
            <a:endParaRPr b="0" lang="en-US" sz="2800" spc="-1" strike="noStrike">
              <a:solidFill>
                <a:srgbClr val="fffbef"/>
              </a:solidFill>
              <a:latin typeface="Copperplate"/>
            </a:endParaRPr>
          </a:p>
          <a:p>
            <a:pPr lvl="4" algn="ctr">
              <a:buClr>
                <a:srgbClr val="fffbef"/>
              </a:buClr>
              <a:buFont typeface="Copperplat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bef"/>
                </a:solidFill>
                <a:latin typeface="Copperplate"/>
              </a:rPr>
              <a:t>Fifth Outline Level</a:t>
            </a:r>
            <a:endParaRPr b="0" lang="en-US" sz="2800" spc="-1" strike="noStrike">
              <a:solidFill>
                <a:srgbClr val="fffbef"/>
              </a:solidFill>
              <a:latin typeface="Copperplate"/>
            </a:endParaRPr>
          </a:p>
          <a:p>
            <a:pPr lvl="5" algn="ctr">
              <a:buClr>
                <a:srgbClr val="5b5648"/>
              </a:buClr>
              <a:buFont typeface="Copperplat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bef"/>
                </a:solidFill>
                <a:latin typeface="Copperplate"/>
              </a:rPr>
              <a:t>Sixth Outline Level</a:t>
            </a:r>
            <a:endParaRPr b="0" lang="en-US" sz="2800" spc="-1" strike="noStrike">
              <a:solidFill>
                <a:srgbClr val="fffbef"/>
              </a:solidFill>
              <a:latin typeface="Copperplate"/>
            </a:endParaRPr>
          </a:p>
          <a:p>
            <a:pPr lvl="6" algn="ctr">
              <a:buClr>
                <a:srgbClr val="5b5648"/>
              </a:buClr>
              <a:buFont typeface="Copperplat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bef"/>
                </a:solidFill>
                <a:latin typeface="Copperplate"/>
              </a:rPr>
              <a:t>Seventh Outline Level</a:t>
            </a:r>
            <a:endParaRPr b="0" lang="en-US" sz="2800" spc="-1" strike="noStrike">
              <a:solidFill>
                <a:srgbClr val="fffbef"/>
              </a:solidFill>
              <a:latin typeface="Copperplat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711360" y="5486040"/>
            <a:ext cx="7721280" cy="1079640"/>
          </a:xfrm>
          <a:prstGeom prst="rect">
            <a:avLst/>
          </a:prstGeom>
          <a:noFill/>
          <a:ln w="0">
            <a:noFill/>
          </a:ln>
          <a:effectLst>
            <a:outerShdw dist="50911" dir="13500000" blurRad="0" rotWithShape="0">
              <a:srgbClr val="333333">
                <a:alpha val="50000"/>
              </a:srgbClr>
            </a:outerShdw>
          </a:effectLst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fffbef"/>
                </a:solidFill>
                <a:latin typeface="Copperplate"/>
              </a:rPr>
              <a:t>Click to edit the title text format</a:t>
            </a:r>
            <a:endParaRPr b="0" lang="en-US" sz="5600" spc="-1" strike="noStrike">
              <a:solidFill>
                <a:srgbClr val="fffbef"/>
              </a:solidFill>
              <a:latin typeface="Copperplat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266760" y="977760"/>
            <a:ext cx="4191120" cy="2603520"/>
          </a:xfrm>
          <a:prstGeom prst="rect">
            <a:avLst/>
          </a:prstGeom>
          <a:noFill/>
          <a:ln w="0">
            <a:noFill/>
          </a:ln>
          <a:effectLst>
            <a:outerShdw dist="50911" dir="13500000" blurRad="0" rotWithShape="0">
              <a:srgbClr val="333333">
                <a:alpha val="50000"/>
              </a:srgbClr>
            </a:outerShdw>
          </a:effectLst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bef"/>
                </a:solidFill>
                <a:latin typeface="Copperplate"/>
              </a:rPr>
              <a:t>Click to edit the title text format</a:t>
            </a:r>
            <a:endParaRPr b="0" lang="en-US" sz="4800" spc="-1" strike="noStrike">
              <a:solidFill>
                <a:srgbClr val="fffbef"/>
              </a:solidFill>
              <a:latin typeface="Copperplate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266760" y="3669840"/>
            <a:ext cx="4191120" cy="2273400"/>
          </a:xfrm>
          <a:prstGeom prst="rect">
            <a:avLst/>
          </a:prstGeom>
          <a:noFill/>
          <a:ln w="0">
            <a:noFill/>
          </a:ln>
          <a:effectLst>
            <a:outerShdw dist="25455" dir="13500000" blurRad="0" rotWithShape="0">
              <a:srgbClr val="333333">
                <a:alpha val="50000"/>
              </a:srgbClr>
            </a:outerShdw>
          </a:effectLst>
        </p:spPr>
        <p:txBody>
          <a:bodyPr lIns="38160" rIns="38160" tIns="38160" bIns="38160" anchor="t">
            <a:normAutofit fontScale="82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bef"/>
                </a:solidFill>
                <a:latin typeface="Copperplate"/>
              </a:rPr>
              <a:t>Click to edit the outline text format</a:t>
            </a:r>
            <a:endParaRPr b="0" lang="en-US" sz="2400" spc="-1" strike="noStrike">
              <a:solidFill>
                <a:srgbClr val="fffbef"/>
              </a:solidFill>
              <a:latin typeface="Copperplate"/>
            </a:endParaRPr>
          </a:p>
          <a:p>
            <a:pPr lvl="1" algn="ctr">
              <a:buClr>
                <a:srgbClr val="fffbef"/>
              </a:buClr>
              <a:buFont typeface="Copperplat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bef"/>
                </a:solidFill>
                <a:latin typeface="Copperplate"/>
              </a:rPr>
              <a:t>Second Outline Level</a:t>
            </a:r>
            <a:endParaRPr b="0" lang="en-US" sz="2400" spc="-1" strike="noStrike">
              <a:solidFill>
                <a:srgbClr val="fffbef"/>
              </a:solidFill>
              <a:latin typeface="Copperplate"/>
            </a:endParaRPr>
          </a:p>
          <a:p>
            <a:pPr lvl="2" algn="ctr">
              <a:buClr>
                <a:srgbClr val="fffbef"/>
              </a:buClr>
              <a:buFont typeface="Copperplat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bef"/>
                </a:solidFill>
                <a:latin typeface="Copperplate"/>
              </a:rPr>
              <a:t>Third Outline Level</a:t>
            </a:r>
            <a:endParaRPr b="0" lang="en-US" sz="2400" spc="-1" strike="noStrike">
              <a:solidFill>
                <a:srgbClr val="fffbef"/>
              </a:solidFill>
              <a:latin typeface="Copperplate"/>
            </a:endParaRPr>
          </a:p>
          <a:p>
            <a:pPr lvl="3" algn="ctr">
              <a:buClr>
                <a:srgbClr val="fffbef"/>
              </a:buClr>
              <a:buFont typeface="Copperplat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bef"/>
                </a:solidFill>
                <a:latin typeface="Copperplate"/>
              </a:rPr>
              <a:t>Fourth Outline Level</a:t>
            </a:r>
            <a:endParaRPr b="0" lang="en-US" sz="2400" spc="-1" strike="noStrike">
              <a:solidFill>
                <a:srgbClr val="fffbef"/>
              </a:solidFill>
              <a:latin typeface="Copperplate"/>
            </a:endParaRPr>
          </a:p>
          <a:p>
            <a:pPr lvl="4" algn="ctr">
              <a:buClr>
                <a:srgbClr val="fffbef"/>
              </a:buClr>
              <a:buFont typeface="Copperplat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bef"/>
                </a:solidFill>
                <a:latin typeface="Copperplate"/>
              </a:rPr>
              <a:t>Fifth Outline Level</a:t>
            </a:r>
            <a:endParaRPr b="0" lang="en-US" sz="2400" spc="-1" strike="noStrike">
              <a:solidFill>
                <a:srgbClr val="fffbef"/>
              </a:solidFill>
              <a:latin typeface="Copperplate"/>
            </a:endParaRPr>
          </a:p>
          <a:p>
            <a:pPr lvl="5" algn="ctr">
              <a:buClr>
                <a:srgbClr val="5b5648"/>
              </a:buClr>
              <a:buFont typeface="Copperplat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bef"/>
                </a:solidFill>
                <a:latin typeface="Copperplate"/>
              </a:rPr>
              <a:t>Sixth Outline Level</a:t>
            </a:r>
            <a:endParaRPr b="0" lang="en-US" sz="2400" spc="-1" strike="noStrike">
              <a:solidFill>
                <a:srgbClr val="fffbef"/>
              </a:solidFill>
              <a:latin typeface="Copperplate"/>
            </a:endParaRPr>
          </a:p>
          <a:p>
            <a:pPr lvl="6" algn="ctr">
              <a:buClr>
                <a:srgbClr val="5b5648"/>
              </a:buClr>
              <a:buFont typeface="Copperplat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bef"/>
                </a:solidFill>
                <a:latin typeface="Copperplate"/>
              </a:rPr>
              <a:t>Seventh Outline Level</a:t>
            </a:r>
            <a:endParaRPr b="0" lang="en-US" sz="2400" spc="-1" strike="noStrike">
              <a:solidFill>
                <a:srgbClr val="fffbef"/>
              </a:solidFill>
              <a:latin typeface="Copperplat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texasindians.com/jumano.htm" TargetMode="External"/><Relationship Id="rId3" Type="http://schemas.openxmlformats.org/officeDocument/2006/relationships/hyperlink" Target="http://www.tshaonline.org/handbook/online/articles/bmj07" TargetMode="External"/><Relationship Id="rId4" Type="http://schemas.openxmlformats.org/officeDocument/2006/relationships/hyperlink" Target="http://www.ehow.com/about_4569796_jumano-indian-tribe.html" TargetMode="External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711360" y="393480"/>
            <a:ext cx="7721280" cy="1307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5b5648"/>
                </a:solidFill>
                <a:latin typeface="Lucida Grande"/>
                <a:ea typeface="Lucida Grande"/>
              </a:rPr>
              <a:t>JUMANO TRIBE</a:t>
            </a:r>
            <a:endParaRPr b="0" lang="en-US" sz="5000" spc="-1" strike="noStrike">
              <a:solidFill>
                <a:srgbClr val="5b5648"/>
              </a:solidFill>
              <a:latin typeface="Copperplate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3073320" y="5397120"/>
            <a:ext cx="3340080" cy="546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54160" indent="-254160">
              <a:lnSpc>
                <a:spcPct val="100000"/>
              </a:lnSpc>
              <a:buClr>
                <a:srgbClr val="878787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648"/>
                </a:solidFill>
                <a:latin typeface="Lucida Grande"/>
                <a:ea typeface="Lucida Grande"/>
              </a:rPr>
              <a:t>By: Rylee Moseley</a:t>
            </a:r>
            <a:endParaRPr b="0" lang="en-US" sz="2400" spc="-1" strike="noStrike">
              <a:solidFill>
                <a:srgbClr val="5b5648"/>
              </a:solidFill>
              <a:latin typeface="Baskerville"/>
            </a:endParaRPr>
          </a:p>
        </p:txBody>
      </p:sp>
      <p:pic>
        <p:nvPicPr>
          <p:cNvPr id="452" name="" descr=""/>
          <p:cNvPicPr/>
          <p:nvPr/>
        </p:nvPicPr>
        <p:blipFill>
          <a:blip r:embed="rId2"/>
          <a:stretch/>
        </p:blipFill>
        <p:spPr>
          <a:xfrm>
            <a:off x="3416400" y="1511280"/>
            <a:ext cx="2311200" cy="3467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711360" y="393480"/>
            <a:ext cx="7721280" cy="1307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5b5648"/>
                </a:solidFill>
                <a:latin typeface="Copperplate"/>
              </a:rPr>
              <a:t>FUN FACTS ABOUT JUMANO INDIANS</a:t>
            </a:r>
            <a:endParaRPr b="0" lang="en-US" sz="5000" spc="-1" strike="noStrike">
              <a:solidFill>
                <a:srgbClr val="5b5648"/>
              </a:solidFill>
              <a:latin typeface="Copperplate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711000" y="1942920"/>
            <a:ext cx="8001000" cy="4025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marL="291960" indent="-291960">
              <a:lnSpc>
                <a:spcPct val="100000"/>
              </a:lnSpc>
              <a:spcBef>
                <a:spcPts val="2701"/>
              </a:spcBef>
              <a:buClr>
                <a:srgbClr val="908971"/>
              </a:buClr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648"/>
                </a:solidFill>
                <a:latin typeface="Baskerville"/>
              </a:rPr>
              <a:t>IT HAD BEEN RECORDED THAT THE JUMANO INDIANS DID NOT WEAR A LOT OF CLOTHES.</a:t>
            </a:r>
            <a:endParaRPr b="0" lang="en-US" sz="1800" spc="-1" strike="noStrike">
              <a:solidFill>
                <a:srgbClr val="5b5648"/>
              </a:solidFill>
              <a:latin typeface="Baskerville"/>
            </a:endParaRPr>
          </a:p>
          <a:p>
            <a:pPr marL="291960" indent="-291960">
              <a:lnSpc>
                <a:spcPct val="100000"/>
              </a:lnSpc>
              <a:spcBef>
                <a:spcPts val="2701"/>
              </a:spcBef>
              <a:buClr>
                <a:srgbClr val="908971"/>
              </a:buClr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648"/>
                </a:solidFill>
                <a:latin typeface="Baskerville"/>
              </a:rPr>
              <a:t>SOME BELIEVED THAT THEY CREATED THE TRAIL WHICH WAS LATER NAMED “EL CAMINO REAL”.</a:t>
            </a:r>
            <a:endParaRPr b="0" lang="en-US" sz="1800" spc="-1" strike="noStrike">
              <a:solidFill>
                <a:srgbClr val="5b5648"/>
              </a:solidFill>
              <a:latin typeface="Baskerville"/>
            </a:endParaRPr>
          </a:p>
          <a:p>
            <a:pPr marL="291960" indent="-291960">
              <a:lnSpc>
                <a:spcPct val="100000"/>
              </a:lnSpc>
              <a:spcBef>
                <a:spcPts val="2701"/>
              </a:spcBef>
              <a:buClr>
                <a:srgbClr val="908971"/>
              </a:buClr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648"/>
                </a:solidFill>
                <a:latin typeface="Baskerville"/>
              </a:rPr>
              <a:t>THEY USED A BONE FOR A NEEDLE TO TATOO THEMSELVES.</a:t>
            </a:r>
            <a:endParaRPr b="0" lang="en-US" sz="1800" spc="-1" strike="noStrike">
              <a:solidFill>
                <a:srgbClr val="5b5648"/>
              </a:solidFill>
              <a:latin typeface="Baskerville"/>
            </a:endParaRPr>
          </a:p>
          <a:p>
            <a:pPr marL="291960" indent="-291960">
              <a:lnSpc>
                <a:spcPct val="100000"/>
              </a:lnSpc>
              <a:spcBef>
                <a:spcPts val="2701"/>
              </a:spcBef>
              <a:buClr>
                <a:srgbClr val="908971"/>
              </a:buClr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648"/>
                </a:solidFill>
                <a:latin typeface="Baskerville"/>
              </a:rPr>
              <a:t>THEY PAINTED STRIPES ON THEIR BODIES.</a:t>
            </a:r>
            <a:endParaRPr b="0" lang="en-US" sz="1800" spc="-1" strike="noStrike">
              <a:solidFill>
                <a:srgbClr val="5b5648"/>
              </a:solidFill>
              <a:latin typeface="Baskerville"/>
            </a:endParaRPr>
          </a:p>
          <a:p>
            <a:pPr marL="291960" indent="-291960">
              <a:lnSpc>
                <a:spcPct val="100000"/>
              </a:lnSpc>
              <a:spcBef>
                <a:spcPts val="2701"/>
              </a:spcBef>
              <a:buClr>
                <a:srgbClr val="908971"/>
              </a:buClr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648"/>
                </a:solidFill>
                <a:latin typeface="Baskerville"/>
              </a:rPr>
              <a:t>THEY MADE SHOES AND CLOTHES FROM BUFFALO AND DEER HIDE.</a:t>
            </a:r>
            <a:endParaRPr b="0" lang="en-US" sz="1800" spc="-1" strike="noStrike">
              <a:solidFill>
                <a:srgbClr val="5b5648"/>
              </a:solidFill>
              <a:latin typeface="Baskerville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711360" y="393480"/>
            <a:ext cx="7721280" cy="1307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5b5648"/>
                </a:solidFill>
                <a:latin typeface="Copperplate"/>
              </a:rPr>
              <a:t>CREDITS</a:t>
            </a:r>
            <a:endParaRPr b="0" lang="en-US" sz="5000" spc="-1" strike="noStrike">
              <a:solidFill>
                <a:srgbClr val="5b5648"/>
              </a:solidFill>
              <a:latin typeface="Copperplate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711000" y="1942920"/>
            <a:ext cx="7823160" cy="4025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marL="291960" indent="-291960">
              <a:lnSpc>
                <a:spcPct val="100000"/>
              </a:lnSpc>
              <a:spcBef>
                <a:spcPts val="2701"/>
              </a:spcBef>
              <a:buClr>
                <a:srgbClr val="908971"/>
              </a:buClr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2"/>
              </a:rPr>
              <a:t>www.texasindians.com/jumano.htm</a:t>
            </a:r>
            <a:endParaRPr b="0" lang="en-US" sz="2400" spc="-1" strike="noStrike">
              <a:solidFill>
                <a:srgbClr val="5b5648"/>
              </a:solidFill>
              <a:latin typeface="Baskerville"/>
            </a:endParaRPr>
          </a:p>
          <a:p>
            <a:pPr marL="291960" indent="-291960">
              <a:lnSpc>
                <a:spcPct val="100000"/>
              </a:lnSpc>
              <a:spcBef>
                <a:spcPts val="2701"/>
              </a:spcBef>
              <a:buClr>
                <a:srgbClr val="908971"/>
              </a:buClr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3"/>
              </a:rPr>
              <a:t>www.tshaonline.org/handbook/online/articles/bmj07</a:t>
            </a:r>
            <a:endParaRPr b="0" lang="en-US" sz="2400" spc="-1" strike="noStrike">
              <a:solidFill>
                <a:srgbClr val="5b5648"/>
              </a:solidFill>
              <a:latin typeface="Baskerville"/>
            </a:endParaRPr>
          </a:p>
          <a:p>
            <a:pPr marL="291960" indent="-291960">
              <a:lnSpc>
                <a:spcPct val="100000"/>
              </a:lnSpc>
              <a:spcBef>
                <a:spcPts val="2701"/>
              </a:spcBef>
              <a:buClr>
                <a:srgbClr val="908971"/>
              </a:buClr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4"/>
              </a:rPr>
              <a:t>www.ehow.com/about_4569796_jumano-indian-tribe.html</a:t>
            </a:r>
            <a:endParaRPr b="0" lang="en-US" sz="2400" spc="-1" strike="noStrike">
              <a:solidFill>
                <a:srgbClr val="5b5648"/>
              </a:solidFill>
              <a:latin typeface="Baskerville"/>
            </a:endParaRPr>
          </a:p>
          <a:p>
            <a:pPr marL="291960" indent="-291960">
              <a:lnSpc>
                <a:spcPct val="100000"/>
              </a:lnSpc>
              <a:spcBef>
                <a:spcPts val="2701"/>
              </a:spcBef>
              <a:buClr>
                <a:srgbClr val="908971"/>
              </a:buClr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471400"/>
                </a:solidFill>
                <a:uFillTx/>
                <a:latin typeface="Baskerville"/>
              </a:rPr>
              <a:t>http://www.tsl.state.tx.us</a:t>
            </a:r>
            <a:r>
              <a:rPr b="0" lang="en-US" sz="2400" spc="-1" strike="noStrike">
                <a:solidFill>
                  <a:srgbClr val="471400"/>
                </a:solidFill>
                <a:latin typeface="Baskerville"/>
              </a:rPr>
              <a:t>/</a:t>
            </a:r>
            <a:endParaRPr b="0" lang="en-US" sz="2400" spc="-1" strike="noStrike">
              <a:solidFill>
                <a:srgbClr val="5b5648"/>
              </a:solidFill>
              <a:latin typeface="Baskerville"/>
            </a:endParaRPr>
          </a:p>
          <a:p>
            <a:pPr marL="291960" indent="-291960">
              <a:lnSpc>
                <a:spcPct val="100000"/>
              </a:lnSpc>
              <a:spcBef>
                <a:spcPts val="2701"/>
              </a:spcBef>
              <a:buClr>
                <a:srgbClr val="908971"/>
              </a:buClr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471400"/>
                </a:solidFill>
                <a:uFillTx/>
                <a:latin typeface="Baskerville"/>
              </a:rPr>
              <a:t>http://www.texasbeyondhistory.net</a:t>
            </a:r>
            <a:r>
              <a:rPr b="0" lang="en-US" sz="2400" spc="-1" strike="noStrike">
                <a:solidFill>
                  <a:srgbClr val="471400"/>
                </a:solidFill>
                <a:latin typeface="Baskerville"/>
              </a:rPr>
              <a:t>/</a:t>
            </a:r>
            <a:endParaRPr b="0" lang="en-US" sz="2400" spc="-1" strike="noStrike">
              <a:solidFill>
                <a:srgbClr val="5b5648"/>
              </a:solidFill>
              <a:latin typeface="Baskerville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711360" y="393480"/>
            <a:ext cx="7721280" cy="1307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5b5648"/>
                </a:solidFill>
                <a:latin typeface="Copperplate"/>
              </a:rPr>
              <a:t>Where did they live in texas?</a:t>
            </a:r>
            <a:endParaRPr b="0" lang="en-US" sz="5000" spc="-1" strike="noStrike">
              <a:solidFill>
                <a:srgbClr val="5b5648"/>
              </a:solidFill>
              <a:latin typeface="Copperplate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711360" y="1942920"/>
            <a:ext cx="3860640" cy="4025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marL="291960" indent="-291960">
              <a:lnSpc>
                <a:spcPct val="100000"/>
              </a:lnSpc>
              <a:spcBef>
                <a:spcPts val="2701"/>
              </a:spcBef>
              <a:buClr>
                <a:srgbClr val="908971"/>
              </a:buClr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b5648"/>
                </a:solidFill>
                <a:latin typeface="Baskerville"/>
              </a:rPr>
              <a:t>Central Texas.</a:t>
            </a:r>
            <a:endParaRPr b="0" lang="en-US" sz="2200" spc="-1" strike="noStrike">
              <a:solidFill>
                <a:srgbClr val="5b5648"/>
              </a:solidFill>
              <a:latin typeface="Baskerville"/>
            </a:endParaRPr>
          </a:p>
          <a:p>
            <a:pPr marL="291960" indent="-291960">
              <a:lnSpc>
                <a:spcPct val="100000"/>
              </a:lnSpc>
              <a:spcBef>
                <a:spcPts val="2701"/>
              </a:spcBef>
              <a:buClr>
                <a:srgbClr val="908971"/>
              </a:buClr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b5648"/>
                </a:solidFill>
                <a:latin typeface="Baskerville"/>
              </a:rPr>
              <a:t>Near La Junta, in far west Texas south of present-day El Paso.</a:t>
            </a:r>
            <a:endParaRPr b="0" lang="en-US" sz="2200" spc="-1" strike="noStrike">
              <a:solidFill>
                <a:srgbClr val="5b5648"/>
              </a:solidFill>
              <a:latin typeface="Baskerville"/>
            </a:endParaRPr>
          </a:p>
          <a:p>
            <a:pPr marL="291960" indent="-291960">
              <a:lnSpc>
                <a:spcPct val="100000"/>
              </a:lnSpc>
              <a:spcBef>
                <a:spcPts val="2701"/>
              </a:spcBef>
              <a:buClr>
                <a:srgbClr val="908971"/>
              </a:buClr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b5648"/>
                </a:solidFill>
                <a:latin typeface="Baskerville"/>
              </a:rPr>
              <a:t>Also New Mexico and Rio Grande.</a:t>
            </a:r>
            <a:endParaRPr b="0" lang="en-US" sz="2200" spc="-1" strike="noStrike">
              <a:solidFill>
                <a:srgbClr val="5b5648"/>
              </a:solidFill>
              <a:latin typeface="Baskerville"/>
            </a:endParaRPr>
          </a:p>
        </p:txBody>
      </p:sp>
      <p:pic>
        <p:nvPicPr>
          <p:cNvPr id="455" name="" descr=""/>
          <p:cNvPicPr/>
          <p:nvPr/>
        </p:nvPicPr>
        <p:blipFill>
          <a:blip r:embed="rId2"/>
          <a:stretch/>
        </p:blipFill>
        <p:spPr>
          <a:xfrm>
            <a:off x="4681440" y="2616120"/>
            <a:ext cx="4030920" cy="2324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711360" y="393480"/>
            <a:ext cx="7721280" cy="1307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5b5648"/>
                </a:solidFill>
                <a:latin typeface="Copperplate"/>
              </a:rPr>
              <a:t>What did they eat and how they get it?</a:t>
            </a:r>
            <a:endParaRPr b="0" lang="en-US" sz="5000" spc="-1" strike="noStrike">
              <a:solidFill>
                <a:srgbClr val="5b5648"/>
              </a:solidFill>
              <a:latin typeface="Copperplate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393840" y="1803240"/>
            <a:ext cx="3860640" cy="4026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marL="291960" indent="-291960">
              <a:lnSpc>
                <a:spcPct val="100000"/>
              </a:lnSpc>
              <a:spcBef>
                <a:spcPts val="2701"/>
              </a:spcBef>
              <a:buClr>
                <a:srgbClr val="908971"/>
              </a:buClr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b5648"/>
                </a:solidFill>
                <a:latin typeface="Baskerville"/>
              </a:rPr>
              <a:t>Dried Corn</a:t>
            </a:r>
            <a:endParaRPr b="0" lang="en-US" sz="2200" spc="-1" strike="noStrike">
              <a:solidFill>
                <a:srgbClr val="5b5648"/>
              </a:solidFill>
              <a:latin typeface="Baskerville"/>
            </a:endParaRPr>
          </a:p>
          <a:p>
            <a:pPr marL="291960" indent="-291960">
              <a:lnSpc>
                <a:spcPct val="100000"/>
              </a:lnSpc>
              <a:spcBef>
                <a:spcPts val="2701"/>
              </a:spcBef>
              <a:buClr>
                <a:srgbClr val="908971"/>
              </a:buClr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b5648"/>
                </a:solidFill>
                <a:latin typeface="Baskerville"/>
              </a:rPr>
              <a:t>Beans</a:t>
            </a:r>
            <a:endParaRPr b="0" lang="en-US" sz="2200" spc="-1" strike="noStrike">
              <a:solidFill>
                <a:srgbClr val="5b5648"/>
              </a:solidFill>
              <a:latin typeface="Baskerville"/>
            </a:endParaRPr>
          </a:p>
          <a:p>
            <a:pPr marL="291960" indent="-291960">
              <a:lnSpc>
                <a:spcPct val="100000"/>
              </a:lnSpc>
              <a:spcBef>
                <a:spcPts val="2701"/>
              </a:spcBef>
              <a:buClr>
                <a:srgbClr val="908971"/>
              </a:buClr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b5648"/>
                </a:solidFill>
                <a:latin typeface="Baskerville"/>
              </a:rPr>
              <a:t>Squash</a:t>
            </a:r>
            <a:endParaRPr b="0" lang="en-US" sz="2200" spc="-1" strike="noStrike">
              <a:solidFill>
                <a:srgbClr val="5b5648"/>
              </a:solidFill>
              <a:latin typeface="Baskerville"/>
            </a:endParaRPr>
          </a:p>
          <a:p>
            <a:pPr marL="291960" indent="-291960">
              <a:lnSpc>
                <a:spcPct val="100000"/>
              </a:lnSpc>
              <a:spcBef>
                <a:spcPts val="2701"/>
              </a:spcBef>
              <a:buClr>
                <a:srgbClr val="908971"/>
              </a:buClr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b5648"/>
                </a:solidFill>
                <a:latin typeface="Baskerville"/>
              </a:rPr>
              <a:t>Meats</a:t>
            </a:r>
            <a:endParaRPr b="0" lang="en-US" sz="2200" spc="-1" strike="noStrike">
              <a:solidFill>
                <a:srgbClr val="5b5648"/>
              </a:solidFill>
              <a:latin typeface="Baskerville"/>
            </a:endParaRPr>
          </a:p>
          <a:p>
            <a:pPr marL="291960" indent="-291960">
              <a:lnSpc>
                <a:spcPct val="100000"/>
              </a:lnSpc>
              <a:spcBef>
                <a:spcPts val="2701"/>
              </a:spcBef>
              <a:buClr>
                <a:srgbClr val="908971"/>
              </a:buClr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b5648"/>
                </a:solidFill>
                <a:latin typeface="Baskerville"/>
              </a:rPr>
              <a:t>Rattlesnakes</a:t>
            </a:r>
            <a:endParaRPr b="0" lang="en-US" sz="2200" spc="-1" strike="noStrike">
              <a:solidFill>
                <a:srgbClr val="5b5648"/>
              </a:solidFill>
              <a:latin typeface="Baskerville"/>
            </a:endParaRPr>
          </a:p>
          <a:p>
            <a:pPr marL="291960" indent="-291960">
              <a:lnSpc>
                <a:spcPct val="100000"/>
              </a:lnSpc>
              <a:spcBef>
                <a:spcPts val="2701"/>
              </a:spcBef>
              <a:buClr>
                <a:srgbClr val="908971"/>
              </a:buClr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b5648"/>
                </a:solidFill>
                <a:latin typeface="Baskerville"/>
              </a:rPr>
              <a:t>Cacti</a:t>
            </a:r>
            <a:endParaRPr b="0" lang="en-US" sz="2200" spc="-1" strike="noStrike">
              <a:solidFill>
                <a:srgbClr val="5b5648"/>
              </a:solidFill>
              <a:latin typeface="Baskerville"/>
            </a:endParaRPr>
          </a:p>
        </p:txBody>
      </p:sp>
      <p:pic>
        <p:nvPicPr>
          <p:cNvPr id="458" name="" descr=""/>
          <p:cNvPicPr/>
          <p:nvPr/>
        </p:nvPicPr>
        <p:blipFill>
          <a:blip r:embed="rId2"/>
          <a:stretch/>
        </p:blipFill>
        <p:spPr>
          <a:xfrm>
            <a:off x="4584600" y="2133720"/>
            <a:ext cx="3861000" cy="2579400"/>
          </a:xfrm>
          <a:prstGeom prst="rect">
            <a:avLst/>
          </a:prstGeom>
          <a:ln w="0">
            <a:noFill/>
          </a:ln>
        </p:spPr>
      </p:pic>
      <p:sp>
        <p:nvSpPr>
          <p:cNvPr id="459" name=""/>
          <p:cNvSpPr/>
          <p:nvPr/>
        </p:nvSpPr>
        <p:spPr>
          <a:xfrm>
            <a:off x="4584600" y="4889520"/>
            <a:ext cx="38610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648"/>
                </a:solidFill>
                <a:latin typeface="Baskerville"/>
                <a:ea typeface="Baskerville"/>
              </a:rPr>
              <a:t>The Jumano Indians grew their own food.  They also hunted and traded.</a:t>
            </a:r>
            <a:endParaRPr b="0" lang="en-US" sz="2800" spc="-1" strike="noStrike">
              <a:solidFill>
                <a:srgbClr val="5b5648"/>
              </a:solidFill>
              <a:latin typeface="Baskerville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711360" y="393480"/>
            <a:ext cx="7721280" cy="1307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5b5648"/>
                </a:solidFill>
                <a:latin typeface="Copperplate"/>
              </a:rPr>
              <a:t>What were their daily life activities?</a:t>
            </a:r>
            <a:endParaRPr b="0" lang="en-US" sz="5000" spc="-1" strike="noStrike">
              <a:solidFill>
                <a:srgbClr val="5b5648"/>
              </a:solidFill>
              <a:latin typeface="Copperplate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711360" y="1942920"/>
            <a:ext cx="3860640" cy="4025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marL="291960" indent="-291960">
              <a:lnSpc>
                <a:spcPct val="100000"/>
              </a:lnSpc>
              <a:spcBef>
                <a:spcPts val="2701"/>
              </a:spcBef>
              <a:buClr>
                <a:srgbClr val="908971"/>
              </a:buClr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b5648"/>
                </a:solidFill>
                <a:latin typeface="Baskerville"/>
              </a:rPr>
              <a:t>Some traveled with herds of American buffalo on the American plains.</a:t>
            </a:r>
            <a:endParaRPr b="0" lang="en-US" sz="2200" spc="-1" strike="noStrike">
              <a:solidFill>
                <a:srgbClr val="5b5648"/>
              </a:solidFill>
              <a:latin typeface="Baskerville"/>
            </a:endParaRPr>
          </a:p>
          <a:p>
            <a:pPr marL="291960" indent="-291960">
              <a:lnSpc>
                <a:spcPct val="100000"/>
              </a:lnSpc>
              <a:spcBef>
                <a:spcPts val="2701"/>
              </a:spcBef>
              <a:buClr>
                <a:srgbClr val="908971"/>
              </a:buClr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b5648"/>
                </a:solidFill>
                <a:latin typeface="Baskerville"/>
              </a:rPr>
              <a:t>They farmed near the rivers.</a:t>
            </a:r>
            <a:endParaRPr b="0" lang="en-US" sz="2200" spc="-1" strike="noStrike">
              <a:solidFill>
                <a:srgbClr val="5b5648"/>
              </a:solidFill>
              <a:latin typeface="Baskerville"/>
            </a:endParaRPr>
          </a:p>
          <a:p>
            <a:pPr marL="291960" indent="-291960">
              <a:lnSpc>
                <a:spcPct val="100000"/>
              </a:lnSpc>
              <a:spcBef>
                <a:spcPts val="2701"/>
              </a:spcBef>
              <a:buClr>
                <a:srgbClr val="908971"/>
              </a:buClr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b5648"/>
                </a:solidFill>
                <a:latin typeface="Baskerville"/>
              </a:rPr>
              <a:t>They made clay pottery to store their seeds and crops.</a:t>
            </a:r>
            <a:endParaRPr b="0" lang="en-US" sz="2200" spc="-1" strike="noStrike">
              <a:solidFill>
                <a:srgbClr val="5b5648"/>
              </a:solidFill>
              <a:latin typeface="Baskerville"/>
            </a:endParaRPr>
          </a:p>
        </p:txBody>
      </p:sp>
      <p:pic>
        <p:nvPicPr>
          <p:cNvPr id="462" name="" descr=""/>
          <p:cNvPicPr/>
          <p:nvPr/>
        </p:nvPicPr>
        <p:blipFill>
          <a:blip r:embed="rId2"/>
          <a:stretch/>
        </p:blipFill>
        <p:spPr>
          <a:xfrm>
            <a:off x="5232240" y="2857680"/>
            <a:ext cx="3289320" cy="1688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711360" y="393480"/>
            <a:ext cx="7721280" cy="1307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b5648"/>
                </a:solidFill>
                <a:latin typeface="Copperplate"/>
              </a:rPr>
              <a:t>What were their traditions </a:t>
            </a:r>
            <a:br>
              <a:rPr sz="3600"/>
            </a:br>
            <a:r>
              <a:rPr b="0" lang="en-US" sz="3600" spc="-1" strike="noStrike">
                <a:solidFill>
                  <a:srgbClr val="5b5648"/>
                </a:solidFill>
                <a:latin typeface="Copperplate"/>
              </a:rPr>
              <a:t>and celebrations?</a:t>
            </a:r>
            <a:endParaRPr b="0" lang="en-US" sz="3600" spc="-1" strike="noStrike">
              <a:solidFill>
                <a:srgbClr val="5b5648"/>
              </a:solidFill>
              <a:latin typeface="Copperplate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b5648"/>
              </a:solidFill>
              <a:latin typeface="Copperplate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711360" y="1942920"/>
            <a:ext cx="3860640" cy="4025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marL="291960" indent="-291960">
              <a:lnSpc>
                <a:spcPct val="100000"/>
              </a:lnSpc>
              <a:spcBef>
                <a:spcPts val="2701"/>
              </a:spcBef>
              <a:buClr>
                <a:srgbClr val="908971"/>
              </a:buClr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b5648"/>
                </a:solidFill>
                <a:latin typeface="Baskerville"/>
              </a:rPr>
              <a:t>The Jumano Indians tatooed themselves for celebrations.</a:t>
            </a:r>
            <a:endParaRPr b="0" lang="en-US" sz="2200" spc="-1" strike="noStrike">
              <a:solidFill>
                <a:srgbClr val="5b5648"/>
              </a:solidFill>
              <a:latin typeface="Baskerville"/>
            </a:endParaRPr>
          </a:p>
          <a:p>
            <a:pPr marL="291960" indent="-291960">
              <a:lnSpc>
                <a:spcPct val="100000"/>
              </a:lnSpc>
              <a:spcBef>
                <a:spcPts val="2701"/>
              </a:spcBef>
              <a:buClr>
                <a:srgbClr val="908971"/>
              </a:buClr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b5648"/>
                </a:solidFill>
                <a:latin typeface="Baskerville"/>
              </a:rPr>
              <a:t>The men shaved all their head except for one knot of hair</a:t>
            </a:r>
            <a:endParaRPr b="0" lang="en-US" sz="2200" spc="-1" strike="noStrike">
              <a:solidFill>
                <a:srgbClr val="5b5648"/>
              </a:solidFill>
              <a:latin typeface="Baskerville"/>
            </a:endParaRPr>
          </a:p>
        </p:txBody>
      </p:sp>
      <p:pic>
        <p:nvPicPr>
          <p:cNvPr id="465" name="" descr=""/>
          <p:cNvPicPr/>
          <p:nvPr/>
        </p:nvPicPr>
        <p:blipFill>
          <a:blip r:embed="rId2"/>
          <a:stretch/>
        </p:blipFill>
        <p:spPr>
          <a:xfrm>
            <a:off x="5207040" y="1892160"/>
            <a:ext cx="2502000" cy="336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711360" y="393480"/>
            <a:ext cx="7721280" cy="1307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b5648"/>
                </a:solidFill>
                <a:latin typeface="Copperplate"/>
              </a:rPr>
              <a:t>who did they believe and who did they worship?</a:t>
            </a:r>
            <a:endParaRPr b="0" lang="en-US" sz="3600" spc="-1" strike="noStrike">
              <a:solidFill>
                <a:srgbClr val="5b5648"/>
              </a:solidFill>
              <a:latin typeface="Copperplate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711360" y="1523520"/>
            <a:ext cx="3860640" cy="4025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marL="291960" indent="-291960">
              <a:lnSpc>
                <a:spcPct val="100000"/>
              </a:lnSpc>
              <a:spcBef>
                <a:spcPts val="2701"/>
              </a:spcBef>
              <a:buClr>
                <a:srgbClr val="908971"/>
              </a:buClr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b5648"/>
                </a:solidFill>
                <a:latin typeface="Baskerville"/>
              </a:rPr>
              <a:t>Their religious beliefs were a combination of Native American celebrating during crop season and the faith given to them by the Spanish.</a:t>
            </a:r>
            <a:endParaRPr b="0" lang="en-US" sz="2200" spc="-1" strike="noStrike">
              <a:solidFill>
                <a:srgbClr val="5b5648"/>
              </a:solidFill>
              <a:latin typeface="Baskerville"/>
            </a:endParaRPr>
          </a:p>
        </p:txBody>
      </p:sp>
      <p:pic>
        <p:nvPicPr>
          <p:cNvPr id="468" name="" descr=""/>
          <p:cNvPicPr/>
          <p:nvPr/>
        </p:nvPicPr>
        <p:blipFill>
          <a:blip r:embed="rId2"/>
          <a:stretch/>
        </p:blipFill>
        <p:spPr>
          <a:xfrm>
            <a:off x="4826160" y="2286000"/>
            <a:ext cx="3746520" cy="2514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711360" y="393480"/>
            <a:ext cx="7721280" cy="1307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5b5648"/>
                </a:solidFill>
                <a:latin typeface="Copperplate"/>
              </a:rPr>
              <a:t>what are they known for?</a:t>
            </a:r>
            <a:endParaRPr b="0" lang="en-US" sz="4500" spc="-1" strike="noStrike">
              <a:solidFill>
                <a:srgbClr val="5b5648"/>
              </a:solidFill>
              <a:latin typeface="Copperplate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711360" y="1942920"/>
            <a:ext cx="3860640" cy="4025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marL="291960" indent="-291960">
              <a:lnSpc>
                <a:spcPct val="100000"/>
              </a:lnSpc>
              <a:spcBef>
                <a:spcPts val="2701"/>
              </a:spcBef>
              <a:buClr>
                <a:srgbClr val="908971"/>
              </a:buClr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b5648"/>
                </a:solidFill>
                <a:latin typeface="Baskerville"/>
              </a:rPr>
              <a:t>The Jumano Indians were known for being traders.</a:t>
            </a:r>
            <a:endParaRPr b="0" lang="en-US" sz="2200" spc="-1" strike="noStrike">
              <a:solidFill>
                <a:srgbClr val="5b5648"/>
              </a:solidFill>
              <a:latin typeface="Baskerville"/>
            </a:endParaRPr>
          </a:p>
          <a:p>
            <a:pPr marL="291960" indent="-291960">
              <a:lnSpc>
                <a:spcPct val="100000"/>
              </a:lnSpc>
              <a:spcBef>
                <a:spcPts val="2701"/>
              </a:spcBef>
              <a:buClr>
                <a:srgbClr val="908971"/>
              </a:buClr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b5648"/>
                </a:solidFill>
                <a:latin typeface="Baskerville"/>
              </a:rPr>
              <a:t>They were know for being the middlemen between the Spanish Colony and other Indian Tribes.</a:t>
            </a:r>
            <a:endParaRPr b="0" lang="en-US" sz="2200" spc="-1" strike="noStrike">
              <a:solidFill>
                <a:srgbClr val="5b5648"/>
              </a:solidFill>
              <a:latin typeface="Baskerville"/>
            </a:endParaRPr>
          </a:p>
        </p:txBody>
      </p:sp>
      <p:pic>
        <p:nvPicPr>
          <p:cNvPr id="471" name="" descr=""/>
          <p:cNvPicPr/>
          <p:nvPr/>
        </p:nvPicPr>
        <p:blipFill>
          <a:blip r:embed="rId2"/>
          <a:stretch/>
        </p:blipFill>
        <p:spPr>
          <a:xfrm>
            <a:off x="5257800" y="2101680"/>
            <a:ext cx="2421000" cy="3327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711360" y="393480"/>
            <a:ext cx="7721280" cy="1307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5b5648"/>
                </a:solidFill>
                <a:latin typeface="Copperplate"/>
              </a:rPr>
              <a:t>What Contributions did they give to texas?</a:t>
            </a:r>
            <a:endParaRPr b="0" lang="en-US" sz="5000" spc="-1" strike="noStrike">
              <a:solidFill>
                <a:srgbClr val="5b5648"/>
              </a:solidFill>
              <a:latin typeface="Copperplate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711360" y="1942920"/>
            <a:ext cx="3860640" cy="4025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marL="291960" indent="-291960">
              <a:lnSpc>
                <a:spcPct val="100000"/>
              </a:lnSpc>
              <a:spcBef>
                <a:spcPts val="2701"/>
              </a:spcBef>
              <a:buClr>
                <a:srgbClr val="908971"/>
              </a:buClr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b5648"/>
                </a:solidFill>
                <a:latin typeface="Baskerville"/>
              </a:rPr>
              <a:t>THEY WERE AN IMPORTANT PART OF SPANISH COLONIZATION BY TRADING, SHARING CROPS AND TRANSLATING FOR OTHER TRIBES</a:t>
            </a:r>
            <a:endParaRPr b="0" lang="en-US" sz="2200" spc="-1" strike="noStrike">
              <a:solidFill>
                <a:srgbClr val="5b5648"/>
              </a:solidFill>
              <a:latin typeface="Baskerville"/>
            </a:endParaRPr>
          </a:p>
        </p:txBody>
      </p:sp>
      <p:pic>
        <p:nvPicPr>
          <p:cNvPr id="474" name="" descr=""/>
          <p:cNvPicPr/>
          <p:nvPr/>
        </p:nvPicPr>
        <p:blipFill>
          <a:blip r:embed="rId2"/>
          <a:stretch/>
        </p:blipFill>
        <p:spPr>
          <a:xfrm>
            <a:off x="4800600" y="2489040"/>
            <a:ext cx="3809880" cy="2908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711360" y="393480"/>
            <a:ext cx="7721280" cy="1307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b5648"/>
                </a:solidFill>
                <a:latin typeface="Copperplate"/>
              </a:rPr>
              <a:t>WHAT CHANGED FOR THEM AS SETTLERS ARRIVED?</a:t>
            </a:r>
            <a:endParaRPr b="0" lang="en-US" sz="3600" spc="-1" strike="noStrike">
              <a:solidFill>
                <a:srgbClr val="5b5648"/>
              </a:solidFill>
              <a:latin typeface="Copperplate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711360" y="1942920"/>
            <a:ext cx="3860640" cy="4025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marL="291960" indent="-291960">
              <a:lnSpc>
                <a:spcPct val="100000"/>
              </a:lnSpc>
              <a:spcBef>
                <a:spcPts val="2701"/>
              </a:spcBef>
              <a:buClr>
                <a:srgbClr val="908971"/>
              </a:buClr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b5648"/>
                </a:solidFill>
                <a:latin typeface="Baskerville"/>
              </a:rPr>
              <a:t>AS SETTLERS ARRIVED THEY FACED POPULATION LOSS AND TERRITORY TRADE LOSS.  THEIR CULTURE EVENTUALLY DIED OUT.</a:t>
            </a:r>
            <a:endParaRPr b="0" lang="en-US" sz="2200" spc="-1" strike="noStrike">
              <a:solidFill>
                <a:srgbClr val="5b5648"/>
              </a:solidFill>
              <a:latin typeface="Baskerville"/>
            </a:endParaRPr>
          </a:p>
        </p:txBody>
      </p:sp>
      <p:pic>
        <p:nvPicPr>
          <p:cNvPr id="477" name="" descr=""/>
          <p:cNvPicPr/>
          <p:nvPr/>
        </p:nvPicPr>
        <p:blipFill>
          <a:blip r:embed="rId2"/>
          <a:stretch/>
        </p:blipFill>
        <p:spPr>
          <a:xfrm>
            <a:off x="5740560" y="2870280"/>
            <a:ext cx="2755800" cy="18414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Rylee Moseley</dc:creator>
  <dc:description/>
  <dc:language>en-US</dc:language>
  <cp:lastModifiedBy/>
  <cp:revision>0</cp:revision>
  <dc:subject/>
  <dc:title>Slide 1</dc:title>
</cp:coreProperties>
</file>